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C82F-E395-4402-80D5-74FC1D3EC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447C-1D24-4EB4-8018-CF2197048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155E-20CB-4FC8-9CD8-21E596C13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7C76-4254-4121-B3E2-7B06A2057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41F1-496C-45BF-803F-012366A00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7B76-B569-4F46-8243-545409513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50D5-965C-4EAA-BB39-EC5367709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991C-3CEB-41DA-8701-36B8C1753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404E-514A-4B8F-95FB-6D4FFAEF2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EAE3-EF4F-4A83-9CD4-16A75E95B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9442-6965-403E-9AB7-2D4F864AD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95B-4E3E-418B-9072-CD340F951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F15-51E0-464B-ABB1-C9A2F8EBA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BC2-6456-450C-98E6-58B15E040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1DA-92F1-46BC-9B27-1A08B8840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A3BF-0BC0-462F-B628-A5796D868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6FF3-87DC-43B1-9B8F-70B27E5CC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20C9-AD3F-451C-93F1-0CB4BCC87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E8A5-3EE0-42B3-ACD7-DA7C14EDE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2EC8-0A8D-45AE-AC84-CC9078D01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042C-BAE2-48FB-9948-A06DB8BB7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F560-D771-455A-9406-B1820B2D8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1C20-D57C-4577-85C0-D529DDBFD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02C3-CC9C-413D-A520-AEACC7ABA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3FAC-48D9-4B8D-AD81-167284D87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124C-4DA2-47DB-9C7D-961D4D494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9377-E870-48B3-9C87-763083FD4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E184-BB36-4C3A-B81E-67ED9D524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AE11-E740-4C65-B403-6CB519C24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4A7D-FAC0-4064-9DD2-89B9F4549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5ED7-5E54-415E-BE1B-4691F4D64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46E3-FC0B-47A9-ADCC-9D71C4E90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96A8-140E-43A0-A120-40CCA3F44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1F15-B666-4DB2-9518-35C5DB70B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52ED-1EA7-4C97-90B5-C9F433BA7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821-1FE6-463E-8BC1-1707AA44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8BC-72AF-4F48-92FE-4A019EFB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38D-62E6-4C73-87D6-25F9921C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ACC-978C-4933-94B1-73F304DE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E51B-73EB-4512-A7B8-A66258B4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8400-2896-4F82-9B25-2221B863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BA67-D5B4-498B-9CDF-EE57255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DCF1-EC84-4676-B543-579BF7F6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A72D-A5BA-4AB0-B5C4-8DE73FE9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127-954B-4983-B4AE-A53290C9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047F-0686-4815-94B1-1E0D6D9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340-94F5-483E-9037-19D2D63B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909F-819F-4C86-B718-5834A40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9E1F-5B5D-482C-9F8B-C90FDF4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874F-BFD7-4B7C-8EF2-88560575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3C1F-05BA-41BF-AEE3-32DCFA07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9286-E90F-4781-9BAD-DC985D3B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0B14-1811-4224-8E2D-D81265DB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6722-44A4-47EE-AF5C-3D08D0D1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ABD3-B443-4F38-8829-28072100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96D6-F5E3-4033-9179-6A07AE3E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6A9B-611D-4765-9019-9BF598A0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1E1-AEE6-4090-84A8-68AF225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94F4-6666-45A6-9666-67F23951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5585-2D1D-44A7-BCC7-D3EE30E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52AA-D151-41C3-987F-021C92BC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CF2E-5A9E-4168-BFD1-4FF5C3EC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5DFD-CEDA-4A8F-8C1A-3DFC6370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2F90-9DE8-4539-B7EF-58A3831D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8AB46-28C0-49BA-B216-384569FB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A5DF-F8E1-4F2C-8D22-8608371F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5686-2588-4D57-985B-BFD2D6D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B5A6-77DB-4803-B605-D507083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FD0-46CD-4395-88E9-E139BDA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5114-7B3C-4E32-9C64-28F87B04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784A-5708-465D-9B6D-BBB54DA3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AA42-E59B-4651-821A-DC8E5F6D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DB8CC-FCE4-4250-8748-020A9A7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BB35C-9416-433B-B572-9C39CEB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E556-7BF5-4A06-BBE0-85FDF19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A5AF-9710-4511-9E11-C414D919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C75FB-A20B-4E9C-9CE1-C9FD892A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DDFA-9DCE-43EC-80C0-A9CD00B6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C6D36-4DA1-4DB6-B5B5-289FB265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4C2-51A9-4B91-9539-A6037514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DB85-9DC7-40BB-B394-6D942BD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E10D-C6ED-47C4-9E49-8A53F5C9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B7790-A6B1-4D2A-9684-09E10ECA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89CD9-B2A9-4563-94DD-742C1D7D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9CEF3-0797-4344-B9F1-163031AC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93D02-075A-4A6E-ACB4-968FA98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B387-6E0A-44D2-8CAF-629C0ED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0B58-2418-4688-9444-84548E0F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432A-659F-47D6-83C5-EB175FB0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A6F6-7216-4EAB-9D93-58549A34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1A5-94A8-403A-A40B-8FD1D03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9DDE0-8A22-4F9B-9BCA-A185A6E6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E315-8571-44BF-A3BA-A0165CA3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E68B-5975-46E1-94D4-515E1310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2E08C-CB25-4312-A35B-3DC3C82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D454B-24CB-49C2-8842-627DB85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558A-0DBD-47BE-9CBE-14913948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35C49-3115-46F4-921D-B9A3E6EC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9594C-2688-4F0E-B6E6-2100664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6A2E-7783-4150-847B-D3366DF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3FBD2-4FDB-4FD6-8682-8CFD174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373-7180-453C-A20B-C1AF6C28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020F1-3FB6-4652-9D21-B5BAF6D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5FDE2-0189-4368-8C4D-0BA1C8D4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CF042-BFDD-4ED8-93B2-A026CD76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75EF-4DF3-4E2B-BEC0-DDF7E5E2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D089-034A-496E-9184-5ADA5A3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22FD5-3B15-4F42-98F8-EE3F3160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5D56-790E-45B4-A499-401FBE5F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4CA0-C121-4260-BBE7-D5F7F2A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33B1-D299-4902-A663-F3396AFD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A3037-A433-47C1-8D61-79023AC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A5A-E593-4315-A501-93A6320C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C8727-123B-4E8F-AE32-A0E6582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1101E-84E9-4904-99C2-B11B71A3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1E4B5-DB28-4689-B005-083935CA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8244-B44F-4B52-AD9B-9C57A25E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7B6B2-77B7-4B8C-BFEE-F8869D79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0E7-1F64-4636-A5F1-9E2AF3B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Ane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Ane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ttango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85F8-C6A4-47F7-B416-85976E9033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ttango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Ane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Ane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ttango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705F-42CF-4282-B6A1-BB3D76020D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tango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270-74D8-4C2A-AD27-C1C14D1ACBF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1E1A-470B-457A-8CB0-BCCC4EDE163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tango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tango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389C-BCE0-4D3C-B5A7-9C03289EB9B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B38-E45F-439F-97B2-BA168383D3C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tangolo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ttangolo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Elaborazione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laborazione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55C-F88B-4C0A-B1F6-4C8977D922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6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0.xml"/><Relationship Id="rId3" Type="http://schemas.openxmlformats.org/officeDocument/2006/relationships/slide" Target="slide27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1068480" y="1357200"/>
            <a:ext cx="8075520" cy="43243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57200" y="-4287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li Amplificatori Operazional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55720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1473120" y="650880"/>
            <a:ext cx="567072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1071720" y="695160"/>
            <a:ext cx="549576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147680" y="552600"/>
            <a:ext cx="54961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143000" y="428760"/>
            <a:ext cx="2724120" cy="62863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2"/>
          <p:cNvSpPr/>
          <p:nvPr/>
        </p:nvSpPr>
        <p:spPr>
          <a:xfrm>
            <a:off x="3792600" y="28584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786120" y="857160"/>
            <a:ext cx="2725920" cy="1000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3"/>
          <a:stretch/>
        </p:blipFill>
        <p:spPr>
          <a:xfrm>
            <a:off x="3786120" y="1785960"/>
            <a:ext cx="5157720" cy="21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4"/>
          <a:stretch/>
        </p:blipFill>
        <p:spPr>
          <a:xfrm>
            <a:off x="3929040" y="4143240"/>
            <a:ext cx="2743200" cy="1206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5"/>
          <a:stretch/>
        </p:blipFill>
        <p:spPr>
          <a:xfrm>
            <a:off x="3929040" y="4000680"/>
            <a:ext cx="466920" cy="114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"/>
          <p:cNvPicPr/>
          <p:nvPr/>
        </p:nvPicPr>
        <p:blipFill>
          <a:blip r:embed="rId6"/>
          <a:stretch/>
        </p:blipFill>
        <p:spPr>
          <a:xfrm>
            <a:off x="6500880" y="3929040"/>
            <a:ext cx="2440080" cy="285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"/>
          <p:cNvPicPr/>
          <p:nvPr/>
        </p:nvPicPr>
        <p:blipFill>
          <a:blip r:embed="rId7"/>
          <a:stretch/>
        </p:blipFill>
        <p:spPr>
          <a:xfrm>
            <a:off x="6500880" y="4235400"/>
            <a:ext cx="2571840" cy="2479680"/>
          </a:xfrm>
          <a:prstGeom prst="rect">
            <a:avLst/>
          </a:prstGeom>
          <a:ln w="0">
            <a:noFill/>
          </a:ln>
        </p:spPr>
      </p:pic>
      <p:sp>
        <p:nvSpPr>
          <p:cNvPr id="393" name="Esplosione 2 10"/>
          <p:cNvSpPr/>
          <p:nvPr/>
        </p:nvSpPr>
        <p:spPr>
          <a:xfrm>
            <a:off x="7143840" y="1000080"/>
            <a:ext cx="1143000" cy="785880"/>
          </a:xfrm>
          <a:prstGeom prst="irregularSeal2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3792600" y="28584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199280" cy="3060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1143000" y="3549600"/>
            <a:ext cx="27860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1000080" y="3000240"/>
            <a:ext cx="2793960" cy="3619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>
            <a:off x="3714840" y="3000240"/>
            <a:ext cx="2819160" cy="9651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3786120" y="4000680"/>
            <a:ext cx="2743200" cy="2628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6426360" y="3000240"/>
            <a:ext cx="2717640" cy="1486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5"/>
          <a:stretch/>
        </p:blipFill>
        <p:spPr>
          <a:xfrm>
            <a:off x="6375240" y="4429080"/>
            <a:ext cx="2768760" cy="1739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6"/>
          <a:stretch/>
        </p:blipFill>
        <p:spPr>
          <a:xfrm>
            <a:off x="1071720" y="642960"/>
            <a:ext cx="5715000" cy="2381400"/>
          </a:xfrm>
          <a:prstGeom prst="rect">
            <a:avLst/>
          </a:prstGeom>
          <a:ln w="0">
            <a:noFill/>
          </a:ln>
        </p:spPr>
      </p:pic>
      <p:sp>
        <p:nvSpPr>
          <p:cNvPr id="404" name="Esplosione 2 11"/>
          <p:cNvSpPr/>
          <p:nvPr/>
        </p:nvSpPr>
        <p:spPr>
          <a:xfrm>
            <a:off x="7143840" y="1357200"/>
            <a:ext cx="1143000" cy="785880"/>
          </a:xfrm>
          <a:prstGeom prst="irregularSeal2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143000" y="3643200"/>
            <a:ext cx="2768760" cy="2349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2"/>
          <a:stretch/>
        </p:blipFill>
        <p:spPr>
          <a:xfrm>
            <a:off x="1143000" y="571680"/>
            <a:ext cx="7186680" cy="2946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3"/>
          <a:stretch/>
        </p:blipFill>
        <p:spPr>
          <a:xfrm>
            <a:off x="4071960" y="3714840"/>
            <a:ext cx="28828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292560" cy="4214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5000760" y="857160"/>
            <a:ext cx="3500280" cy="3345120"/>
          </a:xfrm>
          <a:prstGeom prst="rect">
            <a:avLst/>
          </a:prstGeom>
          <a:ln w="0">
            <a:noFill/>
          </a:ln>
        </p:spPr>
      </p:pic>
      <p:sp>
        <p:nvSpPr>
          <p:cNvPr id="412" name="Esplosione 2 10"/>
          <p:cNvSpPr/>
          <p:nvPr/>
        </p:nvSpPr>
        <p:spPr>
          <a:xfrm>
            <a:off x="5500800" y="1571760"/>
            <a:ext cx="1143000" cy="785520"/>
          </a:xfrm>
          <a:prstGeom prst="irregularSeal2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3214800" cy="3460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4643280" y="500040"/>
            <a:ext cx="3571920" cy="3382920"/>
          </a:xfrm>
          <a:prstGeom prst="rect">
            <a:avLst/>
          </a:prstGeom>
          <a:ln w="0">
            <a:noFill/>
          </a:ln>
        </p:spPr>
      </p:pic>
      <p:sp>
        <p:nvSpPr>
          <p:cNvPr id="416" name="Esplosione 2 7"/>
          <p:cNvSpPr/>
          <p:nvPr/>
        </p:nvSpPr>
        <p:spPr>
          <a:xfrm>
            <a:off x="5000760" y="1143000"/>
            <a:ext cx="1143000" cy="785880"/>
          </a:xfrm>
          <a:prstGeom prst="irregularSeal2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57200" y="-4287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li Amplificatori Operazional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Rettangolo 3"/>
          <p:cNvSpPr/>
          <p:nvPr/>
        </p:nvSpPr>
        <p:spPr>
          <a:xfrm>
            <a:off x="528624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Times New Roman"/>
              </a:rPr>
              <a:t>Con il simbolo “</a:t>
            </a:r>
            <a:r>
              <a:rPr b="1" lang="en-US" sz="1800" spc="-1" strike="noStrike">
                <a:solidFill>
                  <a:srgbClr val="ff7c80"/>
                </a:solidFill>
                <a:latin typeface="Times New Roman"/>
              </a:rPr>
              <a:t>–” </a:t>
            </a:r>
            <a:r>
              <a:rPr b="0" lang="en-US" sz="1800" spc="-1" strike="noStrike">
                <a:solidFill>
                  <a:srgbClr val="ff7c80"/>
                </a:solidFill>
                <a:latin typeface="Times New Roman"/>
              </a:rPr>
              <a:t>  si indica il canale inver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ttangolo 4"/>
          <p:cNvSpPr/>
          <p:nvPr/>
        </p:nvSpPr>
        <p:spPr>
          <a:xfrm>
            <a:off x="5214960" y="19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Times New Roman"/>
              </a:rPr>
              <a:t>Con il simbolo “+” si indica il ca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Times New Roman"/>
              </a:rPr>
              <a:t>non inver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357200" y="1214280"/>
            <a:ext cx="3772080" cy="3695760"/>
          </a:xfrm>
          <a:prstGeom prst="rect">
            <a:avLst/>
          </a:prstGeom>
          <a:ln w="0">
            <a:noFill/>
          </a:ln>
        </p:spPr>
      </p:pic>
      <p:sp>
        <p:nvSpPr>
          <p:cNvPr id="331" name="CasellaDiTesto 6"/>
          <p:cNvSpPr/>
          <p:nvPr/>
        </p:nvSpPr>
        <p:spPr>
          <a:xfrm>
            <a:off x="5286240" y="2714760"/>
            <a:ext cx="350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b80a"/>
                </a:solidFill>
                <a:latin typeface="Gill Sans MT"/>
              </a:rPr>
              <a:t>L’amplificatore operazionale (AO)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è un circuito integrato costituito da una rete di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resistenz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apacità</a:t>
            </a:r>
            <a:r>
              <a:rPr b="0" lang="en-US" sz="1800" spc="-1" strike="noStrike">
                <a:solidFill>
                  <a:srgbClr val="feb80a"/>
                </a:solidFill>
                <a:latin typeface="Gill Sans MT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diod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e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transistor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incapsulati in unico contenitore di plastica o di metallo, che viene collegato normalmente al circuito mediante una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zoccolatura a pression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asellaDiTesto 7"/>
          <p:cNvSpPr/>
          <p:nvPr/>
        </p:nvSpPr>
        <p:spPr>
          <a:xfrm>
            <a:off x="1357200" y="514368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’</a:t>
            </a:r>
            <a:r>
              <a:rPr b="0" lang="en-US" sz="1800" spc="-1" strike="noStrike">
                <a:solidFill>
                  <a:srgbClr val="feb80a"/>
                </a:solidFill>
                <a:latin typeface="Gill Sans MT"/>
              </a:rPr>
              <a:t>AO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può essere definito funzionalmente come un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amplificatore differenzial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cioè un dispositivo attivo a tre terminali che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genera al terminale di uscita una tensione proporzionale alla differenza di tensione fornite ai due terminali di ingre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071720" y="3576600"/>
            <a:ext cx="3500280" cy="3281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1285920" y="500040"/>
            <a:ext cx="3071880" cy="3187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4929120" y="1428840"/>
            <a:ext cx="2928960" cy="3855960"/>
          </a:xfrm>
          <a:prstGeom prst="rect">
            <a:avLst/>
          </a:prstGeom>
          <a:ln w="0">
            <a:noFill/>
          </a:ln>
        </p:spPr>
      </p:pic>
      <p:sp>
        <p:nvSpPr>
          <p:cNvPr id="421" name="CasellaDiTesto 8"/>
          <p:cNvSpPr/>
          <p:nvPr/>
        </p:nvSpPr>
        <p:spPr>
          <a:xfrm>
            <a:off x="7572240" y="2000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=1/(2</a:t>
            </a:r>
            <a:r>
              <a:rPr b="0" lang="el-GR" sz="1400" spc="-1" strike="noStrike">
                <a:solidFill>
                  <a:srgbClr val="000000"/>
                </a:solidFill>
                <a:latin typeface="Bookman Old Style"/>
              </a:rPr>
              <a:t>Π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R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285920" y="785880"/>
            <a:ext cx="3071880" cy="1689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5500800" y="714240"/>
            <a:ext cx="2908080" cy="27687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3"/>
          <a:stretch/>
        </p:blipFill>
        <p:spPr>
          <a:xfrm>
            <a:off x="1214280" y="2357280"/>
            <a:ext cx="3143520" cy="2475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"/>
          <p:cNvPicPr/>
          <p:nvPr/>
        </p:nvPicPr>
        <p:blipFill>
          <a:blip r:embed="rId4"/>
          <a:stretch/>
        </p:blipFill>
        <p:spPr>
          <a:xfrm>
            <a:off x="1357200" y="5072040"/>
            <a:ext cx="3000600" cy="868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"/>
          <p:cNvPicPr/>
          <p:nvPr/>
        </p:nvPicPr>
        <p:blipFill>
          <a:blip r:embed="rId5"/>
          <a:stretch/>
        </p:blipFill>
        <p:spPr>
          <a:xfrm>
            <a:off x="5357880" y="3429000"/>
            <a:ext cx="29289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1"/>
          <a:stretch/>
        </p:blipFill>
        <p:spPr>
          <a:xfrm>
            <a:off x="1214280" y="928800"/>
            <a:ext cx="2781360" cy="1434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"/>
          <p:cNvPicPr/>
          <p:nvPr/>
        </p:nvPicPr>
        <p:blipFill>
          <a:blip r:embed="rId2"/>
          <a:stretch/>
        </p:blipFill>
        <p:spPr>
          <a:xfrm>
            <a:off x="5286240" y="714240"/>
            <a:ext cx="2908440" cy="27687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2857320" cy="1251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"/>
          <p:cNvPicPr/>
          <p:nvPr/>
        </p:nvPicPr>
        <p:blipFill>
          <a:blip r:embed="rId4"/>
          <a:stretch/>
        </p:blipFill>
        <p:spPr>
          <a:xfrm>
            <a:off x="1285920" y="3929040"/>
            <a:ext cx="278136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5286240" y="857160"/>
            <a:ext cx="2819520" cy="2692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1214280" y="857160"/>
            <a:ext cx="2794320" cy="4521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3"/>
          <a:stretch/>
        </p:blipFill>
        <p:spPr>
          <a:xfrm>
            <a:off x="5286240" y="3500280"/>
            <a:ext cx="2832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2786040" cy="3113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"/>
          <p:cNvPicPr/>
          <p:nvPr/>
        </p:nvPicPr>
        <p:blipFill>
          <a:blip r:embed="rId2"/>
          <a:stretch/>
        </p:blipFill>
        <p:spPr>
          <a:xfrm>
            <a:off x="3975120" y="571680"/>
            <a:ext cx="5168880" cy="3047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"/>
          <p:cNvPicPr/>
          <p:nvPr/>
        </p:nvPicPr>
        <p:blipFill>
          <a:blip r:embed="rId3"/>
          <a:stretch/>
        </p:blipFill>
        <p:spPr>
          <a:xfrm>
            <a:off x="1143000" y="3643200"/>
            <a:ext cx="28576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2857680" cy="2870280"/>
          </a:xfrm>
          <a:prstGeom prst="rect">
            <a:avLst/>
          </a:prstGeom>
          <a:ln w="0">
            <a:noFill/>
          </a:ln>
        </p:spPr>
      </p:pic>
      <p:sp>
        <p:nvSpPr>
          <p:cNvPr id="443" name="CasellaDiTesto 7"/>
          <p:cNvSpPr/>
          <p:nvPr/>
        </p:nvSpPr>
        <p:spPr>
          <a:xfrm>
            <a:off x="1214280" y="36432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=1/(2</a:t>
            </a:r>
            <a:r>
              <a:rPr b="0" lang="el-GR" sz="1400" spc="-1" strike="noStrike">
                <a:solidFill>
                  <a:srgbClr val="000000"/>
                </a:solidFill>
                <a:latin typeface="Bookman Old Style"/>
              </a:rPr>
              <a:t>Π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R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2"/>
          <a:stretch/>
        </p:blipFill>
        <p:spPr>
          <a:xfrm>
            <a:off x="1214280" y="4071960"/>
            <a:ext cx="3000600" cy="2514600"/>
          </a:xfrm>
          <a:prstGeom prst="rect">
            <a:avLst/>
          </a:prstGeom>
          <a:ln w="0">
            <a:noFill/>
          </a:ln>
        </p:spPr>
      </p:pic>
      <p:sp>
        <p:nvSpPr>
          <p:cNvPr id="445" name="Esplosione 2 9"/>
          <p:cNvSpPr/>
          <p:nvPr/>
        </p:nvSpPr>
        <p:spPr>
          <a:xfrm>
            <a:off x="2428920" y="4071960"/>
            <a:ext cx="1143000" cy="785880"/>
          </a:xfrm>
          <a:prstGeom prst="irregularSeal2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"/>
          <p:cNvPicPr/>
          <p:nvPr/>
        </p:nvPicPr>
        <p:blipFill>
          <a:blip r:embed="rId3"/>
          <a:stretch/>
        </p:blipFill>
        <p:spPr>
          <a:xfrm>
            <a:off x="4714920" y="642960"/>
            <a:ext cx="3071880" cy="1393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"/>
          <p:cNvPicPr/>
          <p:nvPr/>
        </p:nvPicPr>
        <p:blipFill>
          <a:blip r:embed="rId4"/>
          <a:stretch/>
        </p:blipFill>
        <p:spPr>
          <a:xfrm>
            <a:off x="4714920" y="2149560"/>
            <a:ext cx="30002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2844720" cy="219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1214280" y="78588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"/>
          <p:cNvPicPr/>
          <p:nvPr/>
        </p:nvPicPr>
        <p:blipFill>
          <a:blip r:embed="rId3"/>
          <a:stretch/>
        </p:blipFill>
        <p:spPr>
          <a:xfrm>
            <a:off x="1214280" y="2214720"/>
            <a:ext cx="2786400" cy="4470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4"/>
          <a:stretch/>
        </p:blipFill>
        <p:spPr>
          <a:xfrm>
            <a:off x="5143680" y="3143160"/>
            <a:ext cx="28699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357200" y="785880"/>
            <a:ext cx="66438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143000" y="714240"/>
            <a:ext cx="2928960" cy="4032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5143320" cy="2108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3"/>
          <a:stretch/>
        </p:blipFill>
        <p:spPr>
          <a:xfrm>
            <a:off x="4071960" y="2928960"/>
            <a:ext cx="2832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285920" y="714240"/>
            <a:ext cx="2717640" cy="5588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4214880" y="714240"/>
            <a:ext cx="2755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egnaposto numero diapositiva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C657-5EC5-4CF8-86AB-56CB9FABCB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1214280" y="357120"/>
            <a:ext cx="7572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deal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zato nell’analisi semplificata consiste nelle seguenti approssima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7"/>
          <p:cNvGrpSpPr/>
          <p:nvPr/>
        </p:nvGrpSpPr>
        <p:grpSpPr>
          <a:xfrm>
            <a:off x="3571920" y="1143000"/>
            <a:ext cx="4559040" cy="291960"/>
            <a:chOff x="3571920" y="1143000"/>
            <a:chExt cx="4559040" cy="291960"/>
          </a:xfrm>
        </p:grpSpPr>
        <p:sp>
          <p:nvSpPr>
            <p:cNvPr id="336" name="Rectangle 4"/>
            <p:cNvSpPr/>
            <p:nvPr/>
          </p:nvSpPr>
          <p:spPr>
            <a:xfrm>
              <a:off x="3571920" y="1143000"/>
              <a:ext cx="1739880" cy="29196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Times New Roman"/>
                </a:rPr>
                <a:t>Idea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5476680" y="1143000"/>
              <a:ext cx="2654280" cy="291960"/>
            </a:xfrm>
            <a:prstGeom prst="rect">
              <a:avLst/>
            </a:prstGeom>
            <a:solidFill>
              <a:srgbClr val="ff5050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e7dec9"/>
                  </a:solidFill>
                  <a:latin typeface="Times New Roman"/>
                </a:rPr>
                <a:t>Reale</a:t>
              </a:r>
              <a:r>
                <a:rPr b="0" lang="en-US" sz="2400" spc="-1" strike="noStrike">
                  <a:solidFill>
                    <a:srgbClr val="e7dec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8"/>
          <p:cNvGrpSpPr/>
          <p:nvPr/>
        </p:nvGrpSpPr>
        <p:grpSpPr>
          <a:xfrm>
            <a:off x="2276640" y="1581120"/>
            <a:ext cx="5854680" cy="368280"/>
            <a:chOff x="2276640" y="1581120"/>
            <a:chExt cx="5854680" cy="368280"/>
          </a:xfrm>
        </p:grpSpPr>
        <p:sp>
          <p:nvSpPr>
            <p:cNvPr id="339" name="Rectangle 6">
              <a:hlinkClick r:id="rId1" action="ppaction://hlinksldjump"/>
            </p:cNvPr>
            <p:cNvSpPr/>
            <p:nvPr/>
          </p:nvSpPr>
          <p:spPr>
            <a:xfrm>
              <a:off x="2276640" y="1581120"/>
              <a:ext cx="1206720" cy="368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572280" y="1581120"/>
              <a:ext cx="1739880" cy="3682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</a:t>
              </a:r>
              <a:r>
                <a:rPr b="1" lang="en-US" sz="24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5477040" y="1581120"/>
              <a:ext cx="2654280" cy="3682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e7dec9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e7dec9"/>
                  </a:solidFill>
                  <a:latin typeface="Arial"/>
                </a:rPr>
                <a:t>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9"/>
          <p:cNvGrpSpPr/>
          <p:nvPr/>
        </p:nvGrpSpPr>
        <p:grpSpPr>
          <a:xfrm>
            <a:off x="2276640" y="2038320"/>
            <a:ext cx="5854680" cy="368280"/>
            <a:chOff x="2276640" y="2038320"/>
            <a:chExt cx="5854680" cy="368280"/>
          </a:xfrm>
        </p:grpSpPr>
        <p:sp>
          <p:nvSpPr>
            <p:cNvPr id="343" name="Rectangle 9">
              <a:hlinkClick r:id="rId2" action="ppaction://hlinksldjump"/>
            </p:cNvPr>
            <p:cNvSpPr/>
            <p:nvPr/>
          </p:nvSpPr>
          <p:spPr>
            <a:xfrm>
              <a:off x="2276640" y="2038320"/>
              <a:ext cx="1206720" cy="368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"/>
            <p:cNvSpPr/>
            <p:nvPr/>
          </p:nvSpPr>
          <p:spPr>
            <a:xfrm>
              <a:off x="3572280" y="2038320"/>
              <a:ext cx="1739880" cy="3682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"/>
            <p:cNvSpPr/>
            <p:nvPr/>
          </p:nvSpPr>
          <p:spPr>
            <a:xfrm>
              <a:off x="5477040" y="2038320"/>
              <a:ext cx="2654280" cy="3682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e7dec9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e7dec9"/>
                  </a:solidFill>
                  <a:latin typeface="Arial"/>
                </a:rPr>
                <a:t>-3</a:t>
              </a:r>
              <a:r>
                <a:rPr b="0" lang="en-US" sz="2400" spc="-1" strike="noStrike">
                  <a:solidFill>
                    <a:srgbClr val="e7dec9"/>
                  </a:solidFill>
                  <a:latin typeface="Arial"/>
                </a:rPr>
                <a:t>V</a:t>
              </a:r>
              <a:r>
                <a:rPr b="0" lang="en-US" sz="2400" spc="-1" strike="noStrike" baseline="30000">
                  <a:solidFill>
                    <a:srgbClr val="e7dec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30"/>
          <p:cNvGrpSpPr/>
          <p:nvPr/>
        </p:nvGrpSpPr>
        <p:grpSpPr>
          <a:xfrm>
            <a:off x="2276640" y="2495520"/>
            <a:ext cx="5854680" cy="368280"/>
            <a:chOff x="2276640" y="2495520"/>
            <a:chExt cx="5854680" cy="368280"/>
          </a:xfrm>
        </p:grpSpPr>
        <p:sp>
          <p:nvSpPr>
            <p:cNvPr id="347" name="Rectangle 12">
              <a:hlinkClick r:id="rId3" action="ppaction://hlinksldjump"/>
            </p:cNvPr>
            <p:cNvSpPr/>
            <p:nvPr/>
          </p:nvSpPr>
          <p:spPr>
            <a:xfrm>
              <a:off x="2276640" y="2495520"/>
              <a:ext cx="1206720" cy="368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cc"/>
                  </a:solidFill>
                  <a:latin typeface="Arial"/>
                </a:rPr>
                <a:t>-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 =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cc"/>
                  </a:solidFill>
                  <a:latin typeface="Arial"/>
                </a:rPr>
                <a:t>+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3"/>
            <p:cNvSpPr/>
            <p:nvPr/>
          </p:nvSpPr>
          <p:spPr>
            <a:xfrm>
              <a:off x="3572280" y="2495520"/>
              <a:ext cx="1739880" cy="3682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"/>
            <p:cNvSpPr/>
            <p:nvPr/>
          </p:nvSpPr>
          <p:spPr>
            <a:xfrm>
              <a:off x="5477040" y="2495520"/>
              <a:ext cx="2654280" cy="3682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e7dec9"/>
                  </a:solidFill>
                  <a:latin typeface="Arial"/>
                </a:rPr>
                <a:t>5 - 10</a:t>
              </a:r>
              <a:r>
                <a:rPr b="0" lang="en-US" sz="2400" spc="-1" strike="noStrike" baseline="30000">
                  <a:solidFill>
                    <a:srgbClr val="e7dec9"/>
                  </a:solidFill>
                  <a:latin typeface="Arial"/>
                </a:rPr>
                <a:t>5</a:t>
              </a:r>
              <a:r>
                <a:rPr b="0" lang="en-US" sz="2400" spc="-1" strike="noStrike">
                  <a:solidFill>
                    <a:srgbClr val="e7dec9"/>
                  </a:solidFill>
                  <a:latin typeface="Arial"/>
                </a:rPr>
                <a:t> pA</a:t>
              </a:r>
              <a:r>
                <a:rPr b="0" lang="en-US" sz="2400" spc="-1" strike="noStrike">
                  <a:solidFill>
                    <a:srgbClr val="e7dec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31"/>
          <p:cNvGrpSpPr/>
          <p:nvPr/>
        </p:nvGrpSpPr>
        <p:grpSpPr>
          <a:xfrm>
            <a:off x="2276640" y="2952720"/>
            <a:ext cx="5854680" cy="368280"/>
            <a:chOff x="2276640" y="2952720"/>
            <a:chExt cx="5854680" cy="368280"/>
          </a:xfrm>
        </p:grpSpPr>
        <p:sp>
          <p:nvSpPr>
            <p:cNvPr id="351" name="Rectangle 15">
              <a:hlinkClick r:id="rId4" action="ppaction://hlinksldjump"/>
            </p:cNvPr>
            <p:cNvSpPr/>
            <p:nvPr/>
          </p:nvSpPr>
          <p:spPr>
            <a:xfrm>
              <a:off x="2276640" y="2952720"/>
              <a:ext cx="1206720" cy="368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feb80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3572280" y="2952720"/>
              <a:ext cx="1739880" cy="3682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Symbol"/>
                  <a:ea typeface="Symbol"/>
                </a:rPr>
                <a:t></a:t>
              </a:r>
              <a:r>
                <a:rPr b="1" lang="en-US" sz="24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477040" y="2952720"/>
              <a:ext cx="2654280" cy="3682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e7dec9"/>
                  </a:solidFill>
                  <a:latin typeface="Arial"/>
                </a:rPr>
                <a:t>10 - 10</a:t>
              </a:r>
              <a:r>
                <a:rPr b="0" lang="en-US" sz="2400" spc="-1" strike="noStrike" baseline="30000">
                  <a:solidFill>
                    <a:srgbClr val="e7dec9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e7dec9"/>
                  </a:solidFill>
                  <a:latin typeface="Arial"/>
                </a:rPr>
                <a:t> M</a:t>
              </a:r>
              <a:r>
                <a:rPr b="0" lang="en-US" sz="2400" spc="-1" strike="noStrike">
                  <a:solidFill>
                    <a:srgbClr val="e7dec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2"/>
          <p:cNvGrpSpPr/>
          <p:nvPr/>
        </p:nvGrpSpPr>
        <p:grpSpPr>
          <a:xfrm>
            <a:off x="2276640" y="3409920"/>
            <a:ext cx="5854680" cy="368280"/>
            <a:chOff x="2276640" y="3409920"/>
            <a:chExt cx="5854680" cy="368280"/>
          </a:xfrm>
        </p:grpSpPr>
        <p:sp>
          <p:nvSpPr>
            <p:cNvPr id="355" name="Rectangle 18">
              <a:hlinkClick r:id="rId5" action="ppaction://hlinksldjump"/>
            </p:cNvPr>
            <p:cNvSpPr/>
            <p:nvPr/>
          </p:nvSpPr>
          <p:spPr>
            <a:xfrm>
              <a:off x="2276640" y="3409920"/>
              <a:ext cx="1206720" cy="368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>
              <a:off x="3572280" y="3409920"/>
              <a:ext cx="1739880" cy="3682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>
              <a:off x="5477040" y="3409920"/>
              <a:ext cx="2654280" cy="3682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e7dec9"/>
              </a:solidFill>
              <a:miter/>
            </a:ln>
            <a:effectLst>
              <a:outerShdw dist="107932" dir="2700000" blurRad="0" rotWithShape="0">
                <a:srgbClr val="e7d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e7dec9"/>
                  </a:solidFill>
                  <a:latin typeface="Arial"/>
                </a:rPr>
                <a:t>10 - 1000 </a:t>
              </a:r>
              <a:r>
                <a:rPr b="0" lang="en-US" sz="2400" spc="-1" strike="noStrike">
                  <a:solidFill>
                    <a:srgbClr val="e7dec9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2997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2921040" cy="43686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/>
          <p:cNvPicPr/>
          <p:nvPr/>
        </p:nvPicPr>
        <p:blipFill>
          <a:blip r:embed="rId2"/>
          <a:stretch/>
        </p:blipFill>
        <p:spPr>
          <a:xfrm>
            <a:off x="4357800" y="642960"/>
            <a:ext cx="27558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1428840" y="1000080"/>
            <a:ext cx="69292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1357200" y="785880"/>
            <a:ext cx="2756160" cy="2235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1357200" y="3071880"/>
            <a:ext cx="2730600" cy="3556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"/>
          <p:cNvPicPr/>
          <p:nvPr/>
        </p:nvPicPr>
        <p:blipFill>
          <a:blip r:embed="rId3"/>
          <a:stretch/>
        </p:blipFill>
        <p:spPr>
          <a:xfrm>
            <a:off x="4000680" y="785880"/>
            <a:ext cx="4897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792600" y="0"/>
            <a:ext cx="535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Esercitazioni in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351560" cy="4672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"/>
          <p:cNvPicPr/>
          <p:nvPr/>
        </p:nvPicPr>
        <p:blipFill>
          <a:blip r:embed="rId2"/>
          <a:stretch/>
        </p:blipFill>
        <p:spPr>
          <a:xfrm>
            <a:off x="1143000" y="4251240"/>
            <a:ext cx="42609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9FA6-9725-4D3E-9BAC-1345AA993E7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’AO idea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prima vista il modello </a:t>
            </a:r>
            <a:r>
              <a:rPr b="1" lang="en-US" sz="1800" spc="-1" strike="noStrike">
                <a:solidFill>
                  <a:srgbClr val="feb80a"/>
                </a:solidFill>
                <a:latin typeface="Gill Sans MT"/>
              </a:rPr>
              <a:t>AO ideal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sembrerebbe inutilizzabile in modo lineare dato che per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A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Gill Sans MT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=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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qualsiasi segnale differenziale in ingresso produce saturazion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 vedrà di seguito che, utilizzando una </a:t>
            </a:r>
            <a:r>
              <a:rPr b="0" i="1" lang="en-US" sz="1800" spc="-1" strike="noStrike">
                <a:solidFill>
                  <a:srgbClr val="ff0000"/>
                </a:solidFill>
                <a:latin typeface="Gill Sans MT"/>
              </a:rPr>
              <a:t>rete di controreazion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che annulla la tensione differenziale all’ingresso, l’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O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può essere mantenuto in zona linear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 la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ontroreazion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si possono creare operazioni algebriche su segnali di tensione (somme, sottrazioni, derivazioni, ecc...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ggiungendo una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retroazione positiva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quella negativa , si possono ottenere oscillatori, sfasator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acendo lavorare l’AO fuori dalla zona lineare, lo si può usare come rivelatore di soglia temporizzatore, 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omparato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impulsatore, ecc.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1081-254F-41D0-8243-FDC6D82509A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5000760" y="3286080"/>
            <a:ext cx="3857400" cy="1847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3786120" cy="1974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3"/>
          <a:stretch/>
        </p:blipFill>
        <p:spPr>
          <a:xfrm>
            <a:off x="1285920" y="1500120"/>
            <a:ext cx="3638520" cy="5072040"/>
          </a:xfrm>
          <a:prstGeom prst="rect">
            <a:avLst/>
          </a:prstGeom>
          <a:ln w="0">
            <a:noFill/>
          </a:ln>
        </p:spPr>
      </p:pic>
      <p:sp>
        <p:nvSpPr>
          <p:cNvPr id="365" name="Titolo 1"/>
          <p:cNvSpPr/>
          <p:nvPr/>
        </p:nvSpPr>
        <p:spPr>
          <a:xfrm>
            <a:off x="1357200" y="-14292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aratteristiche di un Opera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egnaposto numero diapositiva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62A5-A57F-4BEE-BB26-F8A4214043C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’AO come elemento di circuito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373040" y="1143000"/>
            <a:ext cx="7770960" cy="2400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1233360" y="3571920"/>
            <a:ext cx="7910640" cy="213372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8"/>
          <p:cNvSpPr/>
          <p:nvPr/>
        </p:nvSpPr>
        <p:spPr>
          <a:xfrm>
            <a:off x="3828960" y="3143160"/>
            <a:ext cx="55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b80a"/>
                </a:solidFill>
                <a:latin typeface="Gill Sans MT"/>
                <a:ea typeface="Arial"/>
              </a:rPr>
              <a:t>amplificatore non inver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9"/>
          <p:cNvSpPr/>
          <p:nvPr/>
        </p:nvSpPr>
        <p:spPr>
          <a:xfrm>
            <a:off x="3945240" y="5500800"/>
            <a:ext cx="48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b80a"/>
                </a:solidFill>
                <a:latin typeface="Gill Sans MT"/>
                <a:ea typeface="Arial"/>
              </a:rPr>
              <a:t>amplificatore inver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egnaposto numero diapositiva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0125-9E55-4C98-B375-2582851636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195560" y="285840"/>
            <a:ext cx="7948440" cy="2755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1347840" y="3286080"/>
            <a:ext cx="7796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214280" y="642960"/>
            <a:ext cx="7564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771336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2:31Z</dcterms:created>
  <dc:creator>nello</dc:creator>
  <dc:description/>
  <dc:language>en-US</dc:language>
  <cp:lastModifiedBy>nello</cp:lastModifiedBy>
  <dcterms:modified xsi:type="dcterms:W3CDTF">2010-04-19T18:51:54Z</dcterms:modified>
  <cp:revision>13</cp:revision>
  <dc:subject/>
  <dc:title>Gli Amplificatori Operazionali</dc:title>
</cp:coreProperties>
</file>