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EC04-D682-4002-8EAA-DD246A2F5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C0B-AD2B-4CDA-BD09-0AC4C3EEF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9F16-B041-465C-B364-E48074A41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F9F-DF4A-4C3C-844F-A75E54F33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31B-5686-4BFD-9827-F85BE6EE4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88B5-76FB-451E-A8D2-99DCB92D6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0737-33F5-4226-BD5B-BDBAAC153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ED94-9CDC-4AAC-8DC2-E2CDB937E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C3AE-6972-4E7E-9B29-B5FB4D808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326-E9DF-4349-8309-3FA6DBCEB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48A-9526-455F-9C52-7345DB800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959A-8C3A-4ED8-A059-D18F7DEB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B83A-B39E-4EDF-9FF6-419AE7D65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AF7-6CB7-4526-9E3D-33BF2DA9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EF0-F7B8-4A6C-B29C-0B5EB2FD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F7D-D153-472B-8CD6-15B607E7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67B-519C-4F7D-B917-EEF8FC60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85C3-93AB-42F8-BB37-A4A8917A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0B77-B2BC-44E3-9C7A-0FC281A8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01C-8B9E-484F-B59C-9531F800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E80-BD7D-43B8-8C7D-8D0560D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38F2-F491-418C-A7E8-3938FD1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4172-E2DA-47AF-86A8-772E570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C9B3-6021-4F6A-AB43-DA8C308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2D9-3158-475C-9567-221AFA4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2E71-5BDE-451B-BF2A-3B6B32F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E38-246D-4349-8483-CD7C51D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1A6B-2AFA-4569-9DA3-9C3DEA9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4A47-60A5-4415-A480-E5E8F3DD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2E5-295D-4E8A-9DA2-DC661870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DFC8-B663-4B06-B4F5-B680FB76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7D16-E6C5-4C9B-AB53-ADF94F3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3531-ADBF-4630-8FBD-FA3D51C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DE36-3B5F-4140-8120-962071B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B0CF-8E49-4B43-B6CB-F1462B7B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30D-6DCD-4800-B69D-805B7CE9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01EA-81F3-4BB2-B06E-3775349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724F-A2CE-4539-8859-23D01D48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CBB2-1911-4282-97D3-15D1014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4526-1183-4B21-8FDC-6B7A700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9DA2-1E70-4173-A2FF-003FAE86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4CD2-C77C-4212-B272-8A923B29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BA7D-3B7D-4B13-9781-C47987E6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B6E7-7C74-47D6-AF49-F1C0A63F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28D9-A535-41AC-B27A-0F5E807E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452C-CC95-4B41-BDAC-D8B4C8FB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EC1-8DEA-4AB4-AF34-3B06959F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8FC4-5C7B-4BA8-8EC8-FA176E39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8FFA-8D96-4FAF-B7A3-5958F4EC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CA0F0-9446-4A15-8B31-B3E6D541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2736-D46E-4F0C-87FB-E023130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6154-2853-481E-8BBC-30997A3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34D4-8CE8-4A3C-85C6-4EE2D60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528E-ABA6-47E3-B39F-C735A49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1517-668D-4041-B289-41010F7B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BFF9-1B9D-41E4-9C6C-8F2DE25A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0B3E-58AD-4252-94E2-414FA192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8CF-5860-4FFD-ACB8-E8C5E8F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3989-CA22-4837-B213-2D454F0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D022-698E-4ABC-8016-9C78754F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6BB1-DD8D-41A7-963C-A09DE81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632B-0CCB-4F14-962D-2BFBA1C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9116-CFE3-432C-876A-F2D8BAD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7EF6B-04D0-40CC-ACD0-3001229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B227-62AF-4EA4-BFE9-28CFAEB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73148-613E-428C-BFE1-989229F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BBB9-4177-4F19-8DFB-E976D0F1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6480-659D-4E7A-9FD7-DA209D14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870-8702-49CF-90BB-61A545B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EA0C-8DA8-42D1-8BC9-5D2C5F00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3742C-C32F-445A-AE89-5C953236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F68F0-DBDB-4EC8-97FC-28024CA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CB1FC-D5DA-443C-A1AD-F2CD703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1873-7A0F-4E5C-BA36-67FAAD5F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7BFC-D49C-4218-9000-9D41B6E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60C5-BE19-40DC-BC41-DD9504F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2C0B-DF3A-4E5D-99F9-64C2536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ECDB-DC8B-469F-821A-76E9E725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3D89-A3CC-48B3-A47E-D5844EB2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A5B-EF08-42DC-A215-F6C5973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1161-5AA9-4D3E-8F01-0F388954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3FC1-8407-49DD-87F8-A30F8284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32268-CA4B-40BD-9B95-6133FB38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086FD-CE1D-46F3-8A08-B34072D4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772B-5EA8-4CB9-8078-C025F0D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FF1E-87D9-4770-A900-419C2289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26E3E-A3AE-472E-B388-4E3041D8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A36B9-66FA-48EB-B31C-1D68542E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A519B-A6EE-4B75-9182-A5E86661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F733-FEDA-4126-ADF4-EF8A1D5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9A0-157C-4B0D-B87B-CED8D28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A269-6461-40F5-9ADB-F0B68A71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9172-AB29-4CF5-8F16-1CA0F62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E17C-97BC-4E59-B305-EAD8744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D4F3-FB2D-4856-B0A9-5F7FC33A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15953-F524-4B53-9E96-A9D6C558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A75-3639-49F6-966E-B21A8A5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D4DC-0435-441C-B51A-63AA4616A9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932-700C-4F8E-B868-C727341C67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ADE-37AD-412D-A8F3-B2D47BE0F96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13B6-478F-47F5-AD1F-3953EF00C2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tango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57D-1766-4BFB-945D-147C7EC9C6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D98C-699D-4255-A286-848D7893390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tango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ttango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Elaborazione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laborazione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A7E2-EB8E-4220-9142-8945963D75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imopachino.it/" TargetMode="External"/><Relationship Id="rId2" Type="http://schemas.openxmlformats.org/officeDocument/2006/relationships/hyperlink" Target="mailto:sris01400g@istruzione.it" TargetMode="External"/><Relationship Id="rId3" Type="http://schemas.openxmlformats.org/officeDocument/2006/relationships/hyperlink" Target="mailto:sris01400g@ec.i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CasellaDiTesto 4"/>
          <p:cNvSpPr/>
          <p:nvPr/>
        </p:nvSpPr>
        <p:spPr>
          <a:xfrm>
            <a:off x="1500120" y="614376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llaDiTesto 5"/>
          <p:cNvSpPr/>
          <p:nvPr/>
        </p:nvSpPr>
        <p:spPr>
          <a:xfrm>
            <a:off x="1357200" y="1917720"/>
            <a:ext cx="750096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LICEO Scientifico – LICEO Scientifico Tecnologico – LICEO delle Scienze Um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ITIS (Meccanica, Meccatronica e Energia- Elettronica ed Elettrotecnica – Informatica e Telecomunica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ITIS Serale (Meccanica, Meccatronica e Energia- Elettronica ed Elettrotecnica – Informatica e Telecomunica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Viale A. Moro – 96018 PACHINO (SR) – Tel.e fax 0931/020131 – 0931 0201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Via Fiume – 96018 PACHINO (SR)- Tel. E fax 0931 8463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www.primopachino.it</a:t>
            </a:r>
            <a:r>
              <a:rPr b="1" i="1" lang="en-US" sz="1000" spc="-1" strike="noStrike">
                <a:solidFill>
                  <a:srgbClr val="000000"/>
                </a:solidFill>
                <a:latin typeface="Gill Sans MT"/>
              </a:rPr>
              <a:t> – Email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sris01400g@istruzione.it</a:t>
            </a:r>
            <a:r>
              <a:rPr b="1" i="1" lang="en-US" sz="10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sris01400g@ec.it</a:t>
            </a:r>
            <a:r>
              <a:rPr b="1" i="1" lang="en-US" sz="1000" spc="-1" strike="noStrike">
                <a:solidFill>
                  <a:srgbClr val="000000"/>
                </a:solidFill>
                <a:latin typeface="Gill Sans MT"/>
              </a:rPr>
              <a:t> – C. F. 830029108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Programma operativo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2007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Fondo Sociale Europ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Competenze per lo Sviluppo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Bando: AOODGAI/5368 del 21.10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Obiettivo “C” – Migliorare i livelli di conoscenza e competenza dei giov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AZ.C1 – Interventi per lo sviluppo delle competenze chiave (comunicazione n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madrelingua, comunicazione nelle lingue straniere, competenza matematica e competenza d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base in scienza e tecnologia, competenza digitale, imparare ad apprendere, competenze soc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e civiche , spirito d’iniziativa e imprenditorialità, consapevolezza ed espressione cultur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Codice progetto: C-1-FSE-2009-38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attività cofinanziata dal Fondo Sociale Europeo e realizzata nell’ambito del Programma Oper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Nazionale “Competenze per lo Sviluppo” 2007-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Gill Sans MT"/>
              </a:rPr>
              <a:t>CORSO BASE DI ELET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Gill Sans MT"/>
              </a:rPr>
              <a:t>(competenze digit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Gill Sans MT"/>
              </a:rPr>
              <a:t>OTTIMIZZAZIONE  DI RETI COMBINA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Gill Sans MT"/>
              </a:rPr>
              <a:t>Rel. Prof. Sebastiano Gianni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4"/>
          <a:stretch/>
        </p:blipFill>
        <p:spPr>
          <a:xfrm>
            <a:off x="1857240" y="0"/>
            <a:ext cx="6429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itolo 1"/>
          <p:cNvSpPr/>
          <p:nvPr/>
        </p:nvSpPr>
        <p:spPr>
          <a:xfrm>
            <a:off x="1143000" y="35712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istema d’allarme a raggi infrar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6707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Esercizio pr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643040" y="1104840"/>
            <a:ext cx="6006960" cy="5753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http://88.53.219.99/liceocutelli/didattica/digiscuola/Italiano/Fonologia/divisione_sillabe/shell/img/pulsante_verifica.gif"/>
          <p:cNvPicPr/>
          <p:nvPr/>
        </p:nvPicPr>
        <p:blipFill>
          <a:blip r:embed="rId2"/>
          <a:stretch/>
        </p:blipFill>
        <p:spPr>
          <a:xfrm>
            <a:off x="1214280" y="214200"/>
            <a:ext cx="8096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857840" y="1239840"/>
            <a:ext cx="4286160" cy="2838600"/>
          </a:xfrm>
          <a:prstGeom prst="rect">
            <a:avLst/>
          </a:prstGeom>
          <a:ln w="0">
            <a:noFill/>
          </a:ln>
        </p:spPr>
      </p:pic>
      <p:sp>
        <p:nvSpPr>
          <p:cNvPr id="362" name="Titolo 1"/>
          <p:cNvSpPr/>
          <p:nvPr/>
        </p:nvSpPr>
        <p:spPr>
          <a:xfrm>
            <a:off x="1071720" y="500040"/>
            <a:ext cx="7407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Esercizio   funzioni boole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asellaDiTesto 3"/>
          <p:cNvSpPr/>
          <p:nvPr/>
        </p:nvSpPr>
        <p:spPr>
          <a:xfrm>
            <a:off x="1214280" y="157176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sheet dei circuiti inte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400 e 7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sellaDiTesto 4"/>
          <p:cNvSpPr/>
          <p:nvPr/>
        </p:nvSpPr>
        <p:spPr>
          <a:xfrm>
            <a:off x="6357960" y="8571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5357880" y="4305240"/>
            <a:ext cx="3139920" cy="2552760"/>
          </a:xfrm>
          <a:prstGeom prst="rect">
            <a:avLst/>
          </a:prstGeom>
          <a:ln w="0">
            <a:noFill/>
          </a:ln>
        </p:spPr>
      </p:pic>
      <p:sp>
        <p:nvSpPr>
          <p:cNvPr id="366" name="CasellaDiTesto 6"/>
          <p:cNvSpPr/>
          <p:nvPr/>
        </p:nvSpPr>
        <p:spPr>
          <a:xfrm>
            <a:off x="6286680" y="4000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7200" y="-500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Ottimizzazione</a:t>
            </a:r>
            <a:r>
              <a:rPr b="0" lang="en-GB" sz="5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di reti combinatori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ttangolo 3"/>
          <p:cNvSpPr/>
          <p:nvPr/>
        </p:nvSpPr>
        <p:spPr>
          <a:xfrm>
            <a:off x="1285920" y="121428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sintesi di una rete combinatoria implica il passaggio dalla espressione booleana specifica  del circuito allo schema circuitale. Il procedimento di sintesi può essere sviluppato in tre fa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lla specifica funzionale si ricava la funzione booleana rappresentata nella tabella della verità (T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lla TV  si ricava un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pressione minim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lla Espressione Booleana minima o semplificata si ricava lo schema circu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problema di ricavare una espressione minima deriva dalla necessità 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durre il numero di porte log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ha una sua rilevanza soprattutto in termini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pecifiche tempora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tempo di risposta di una rete combinatoria,infatti, dipende dal numero di porte logiche attraversate: ridurre tale numero può avere effetti importanti in termini di prestaz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ttangolo 3"/>
          <p:cNvSpPr/>
          <p:nvPr/>
        </p:nvSpPr>
        <p:spPr>
          <a:xfrm>
            <a:off x="755640" y="500040"/>
            <a:ext cx="73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Minimizzazione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basata sulle mappe di Karnau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4"/>
          <p:cNvSpPr/>
          <p:nvPr/>
        </p:nvSpPr>
        <p:spPr>
          <a:xfrm>
            <a:off x="1285920" y="1500120"/>
            <a:ext cx="7143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448400" cy="3047760"/>
          </a:xfrm>
          <a:prstGeom prst="rect">
            <a:avLst/>
          </a:prstGeom>
          <a:ln w="0">
            <a:noFill/>
          </a:ln>
        </p:spPr>
      </p:pic>
      <p:sp>
        <p:nvSpPr>
          <p:cNvPr id="333" name="Rettangolo 7"/>
          <p:cNvSpPr/>
          <p:nvPr/>
        </p:nvSpPr>
        <p:spPr>
          <a:xfrm>
            <a:off x="1440000" y="15001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Struttura delle M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asellaDiTesto 8"/>
          <p:cNvSpPr/>
          <p:nvPr/>
        </p:nvSpPr>
        <p:spPr>
          <a:xfrm>
            <a:off x="1214280" y="50720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l’interno di ciacsuna casella verrà riportato il valore che assume l’uscita del nostro circuito ossia il valore della nostra espressione algebrica (1/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Copertura di una F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71720" y="1571400"/>
            <a:ext cx="792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n </a:t>
            </a:r>
            <a:r>
              <a:rPr b="1" i="1" lang="en-GB" sz="2400" spc="-1" strike="noStrike">
                <a:solidFill>
                  <a:srgbClr val="ff0000"/>
                </a:solidFill>
                <a:latin typeface="Gill Sans MT"/>
              </a:rPr>
              <a:t>implicant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corrisponde ad un sottocubo di soli “1” della MdK, cioè un insieme di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configurazioni di ingresso a distanza unita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n implicante si dice </a:t>
            </a:r>
            <a:r>
              <a:rPr b="1" i="1" lang="en-GB" sz="2400" spc="-1" strike="noStrike">
                <a:solidFill>
                  <a:srgbClr val="ff0000"/>
                </a:solidFill>
                <a:latin typeface="Gill Sans MT"/>
              </a:rPr>
              <a:t>primo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 se non esite un imlicante di dimensioni maggiori che lo contenga interam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n implicante si dice </a:t>
            </a:r>
            <a:r>
              <a:rPr b="1" i="1" lang="en-GB" sz="2400" spc="-1" strike="noStrike">
                <a:solidFill>
                  <a:srgbClr val="ff0000"/>
                </a:solidFill>
                <a:latin typeface="Gill Sans MT"/>
              </a:rPr>
              <a:t>essenzial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se contiene almeno un 1 che non sia incluso in alcun altro implic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na </a:t>
            </a:r>
            <a:r>
              <a:rPr b="1" i="1" lang="en-GB" sz="2400" spc="-1" strike="noStrike">
                <a:solidFill>
                  <a:srgbClr val="ff0000"/>
                </a:solidFill>
                <a:latin typeface="Gill Sans MT"/>
              </a:rPr>
              <a:t>copertura minima</a:t>
            </a:r>
            <a:r>
              <a:rPr b="1" lang="en-GB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i una funzione booleana è l’ insieme di implicanti primi minimo che copra tutti gli 1 (mintermini) della f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Copertura di una F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7496280" cy="4334040"/>
          </a:xfrm>
          <a:prstGeom prst="rect">
            <a:avLst/>
          </a:prstGeom>
          <a:ln w="0">
            <a:noFill/>
          </a:ln>
        </p:spPr>
      </p:pic>
      <p:sp>
        <p:nvSpPr>
          <p:cNvPr id="339" name="CasellaDiTesto 6"/>
          <p:cNvSpPr/>
          <p:nvPr/>
        </p:nvSpPr>
        <p:spPr>
          <a:xfrm>
            <a:off x="1428840" y="56437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Y=a+b+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http://88.53.219.99/liceocutelli/didattica/digiscuola/Italiano/Fonologia/divisione_sillabe/shell/img/pulsante_verifica.gif"/>
          <p:cNvPicPr/>
          <p:nvPr/>
        </p:nvPicPr>
        <p:blipFill>
          <a:blip r:embed="rId1"/>
          <a:stretch/>
        </p:blipFill>
        <p:spPr>
          <a:xfrm>
            <a:off x="7500960" y="4572000"/>
            <a:ext cx="809640" cy="466560"/>
          </a:xfrm>
          <a:prstGeom prst="rect">
            <a:avLst/>
          </a:prstGeom>
          <a:ln w="0">
            <a:noFill/>
          </a:ln>
        </p:spPr>
      </p:pic>
      <p:sp>
        <p:nvSpPr>
          <p:cNvPr id="341" name="CasellaDiTesto 4"/>
          <p:cNvSpPr/>
          <p:nvPr/>
        </p:nvSpPr>
        <p:spPr>
          <a:xfrm>
            <a:off x="1357200" y="1357200"/>
            <a:ext cx="7358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a barriera a raggi infrarossi è realizzata per mezzo di 4 coppie emettitore-ricevitore poste a una distanza verticale luna dall’altra pari a 40 cm. Il sensore a raggi infrarossi è tale da fornire un’uscita a livello basso quando riceve il raggio  e una a livello alto quando non riceve il raggio perché interrot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alizzare un sistema di allarme che segnali il passaggio di un qualsiasi oggetto di altezza superiore ai 40 cm con sole porte NAN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 chiede di determin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 funzione mi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l circuito equival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 realizzazione su bread board con gli integrati opportuni e un led che simuli il passaggio quando ac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olo 1"/>
          <p:cNvSpPr/>
          <p:nvPr/>
        </p:nvSpPr>
        <p:spPr>
          <a:xfrm>
            <a:off x="1357200" y="5000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ill Sans MT"/>
              </a:rPr>
              <a:t>1° esercizio di analisi e sintesi di un circuito combin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istema d’allarme a raggi infrar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olo 1"/>
          <p:cNvSpPr/>
          <p:nvPr/>
        </p:nvSpPr>
        <p:spPr>
          <a:xfrm>
            <a:off x="1143000" y="35712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istema d’allarme a raggi infrar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asellaDiTesto 6"/>
          <p:cNvSpPr/>
          <p:nvPr/>
        </p:nvSpPr>
        <p:spPr>
          <a:xfrm>
            <a:off x="1143000" y="92880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issiamo l’uscita del sistema di allarme,  quando attivo, ad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7473960" cy="1458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2000160" y="2643120"/>
            <a:ext cx="2900520" cy="4057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3"/>
          <a:stretch/>
        </p:blipFill>
        <p:spPr>
          <a:xfrm>
            <a:off x="5357880" y="2714760"/>
            <a:ext cx="25718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tolo 1"/>
          <p:cNvSpPr/>
          <p:nvPr/>
        </p:nvSpPr>
        <p:spPr>
          <a:xfrm>
            <a:off x="1143000" y="35712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istema d’allarme a raggi infrar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214280" y="1071720"/>
            <a:ext cx="6500880" cy="2697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5429160" y="3857760"/>
            <a:ext cx="3714840" cy="2509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1571760" y="3714840"/>
            <a:ext cx="32716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itolo 1"/>
          <p:cNvSpPr/>
          <p:nvPr/>
        </p:nvSpPr>
        <p:spPr>
          <a:xfrm>
            <a:off x="1143000" y="35712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istema d’allarme a raggi infrar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4929120" y="2286000"/>
            <a:ext cx="3929040" cy="2654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1143000" y="100008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1643040" y="4065480"/>
            <a:ext cx="31399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9:56:24Z</dcterms:created>
  <dc:creator>nello</dc:creator>
  <dc:description/>
  <dc:language>en-US</dc:language>
  <cp:lastModifiedBy>nello</cp:lastModifiedBy>
  <dcterms:modified xsi:type="dcterms:W3CDTF">2010-04-17T23:17:33Z</dcterms:modified>
  <cp:revision>5</cp:revision>
  <dc:subject/>
  <dc:title>Ottimizzazione di reti combinatorie</dc:title>
</cp:coreProperties>
</file>