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2197-7112-4F1E-AFE9-4EC591E01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B42B-7E30-4C64-955B-1375A8583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E1C1-FBC7-4427-AAC8-17967C7CB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216-F2F9-4572-A771-2735D6E92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4757-EF52-4979-8B1D-3309721D7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5E2B-FF83-4DE7-86AA-3398AC6D9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068A-90E8-4DEC-BB25-F61318166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C36E-4443-4D2D-BF33-D14358839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89B7-9805-47FB-9DA8-55DD9EC4C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59B7-1D63-4BD6-BA85-98E74BA99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0296-4DAD-4CC2-A7ED-222E1E54B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88B0-75F6-4811-90F5-F3D20F2CE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8548-AD06-423B-A7E7-206F032D5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0834-9478-44CF-AB54-6B3BC32F6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26D3-52DD-479E-A215-5E17C4CE3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8C37-F14B-43E3-80E6-06466C552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A9A3-B1C5-438B-B060-F5E95C6C8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7E7F-4531-4746-86CD-9EAD0F5AD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8646-061A-4AD8-A801-7C0B85112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2971-809C-480A-AB96-B59D934D6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B861-65EB-4D23-BEC7-2F82BF7A6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60D-A543-4F33-A5B4-36EF3C5E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3C9-6D13-402A-B338-0FCC0174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770-8712-44DA-8B43-EDA3643C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D2F-85B5-4D07-AB3C-F638268E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437D-24C8-4D82-89CF-201C486D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C144-AF45-4FCE-BF34-D510FCE9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51D2-4BEA-4DDF-A89C-F97328A8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4793-5F94-4D64-B6BF-CAB43F0A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8560-F0FE-4B5F-87E8-42411415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9FE9-4DF9-4964-BFA4-C49F6B98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5A3A-8D62-400D-BFDF-9E36572A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7A0-20B8-474B-8BB5-70891328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1B55-C64A-457E-B6C2-34E7C35D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1EEA-B061-46FE-882E-FFC218E6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DAE5-3679-474C-AE9E-471D041E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65A9-4ED1-462E-B989-66D77671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76C4-E5F2-4556-A206-46B041B9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0EED3-C073-48C2-9C38-6B17D46B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D267-2CF8-4A53-BB74-F58BBD02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F6FB-7A83-43B6-B0B2-B4509906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07C3-84A6-493E-9652-05013B08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C4C7-6F28-4536-865D-A3D6D044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516-667C-403E-A053-1CCFBD65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6117-D8B3-4D8A-BFEA-DB218E5E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AB5C-AF52-484B-8D72-587A4C91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FCCE-72D6-4AF1-BC0E-281B7B38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F2C8-14DB-4C20-86CE-FAC8D4E7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C210-00C8-441D-8819-DF083783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0348D-97DD-4F23-8B4E-30116635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8F5F-4CAB-4AF0-BF5F-803C06EC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F5F7-584D-4461-86D9-87D7BD1A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8C18-D76E-4F90-BEC1-66E35C6C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6931-45F2-48E0-8E55-8BAD0C54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AF0-2B87-4818-9B76-21A50D86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70FC0-950D-4272-84AD-B0C348CE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B1569-639D-41DA-9031-97E93333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6751-9904-45AA-87F0-F97F20C4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E409E-5623-4BD8-BA1B-813E02A9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3EAC3-B68C-43FD-83E0-F317282B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D48F1-8C58-460A-A5C4-E1E6A950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6EE57-8E0F-4641-A707-8F6EB8A2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27605-8AD9-40CB-9C6D-DCC15BE2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5F653-518B-4091-980A-555926E9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F048F-23CF-4793-AC85-A848861E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7CE-DC46-451A-B69A-D6789D5D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0E96-F61B-4BAF-9B1B-0F9C1F98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35FB8-6827-444F-86B0-45BA9305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B50C9-2C50-461F-A7BA-48214ECD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F3816-50CD-4281-BAA2-64D6C032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03C11-29F2-4353-A964-56F8E926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6CF6C-4085-48FF-AF8E-C2074FA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E0B39-B016-4276-81DE-0AFF648E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58349-65E6-4CAA-8D83-1ACFD8F1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A07DD-BC5A-4E7C-8DCE-E6D756C8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2E1DC-CD1F-433E-BE7B-B0D6FA64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8DB-D049-4492-B322-80157BC3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1E681-5B0C-48B1-8D62-9BF9C214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116DC-7A28-43FF-929D-A1CC023D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6F138-9BBE-4FF6-A807-919F1A7F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89D37-E149-4E3E-8946-84B8EB2A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8C1FA-DF71-4BBA-82AA-A6319E10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C28B7-7EA0-4192-9075-657FDE84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7889C-DE26-46EC-A9BE-44ECE838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50679-02A3-4550-9E29-BA4BB1B2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3CD5F-23C6-419B-BC90-0A98ADBC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BE133-A5A4-46E3-90DA-B51AFC09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7FA-D5BD-4D1A-821D-C11EABF5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1CCB9-2B82-4033-946C-781D9EC8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05863-34E1-4585-901E-B2980734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54DE8-1A96-4E12-AF65-C3FF2C12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04BF9-07B3-4803-A0EE-676B0FAE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57D6C-DC9F-498C-B8BD-33D4F81E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3B352-F84B-4582-98D0-416D9ECC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2F21A-1130-4736-8364-FDFFDEAA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63F09-AFFC-4CB1-80E5-C2A6DB3A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624AB-3340-4C01-A02D-96AA3619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B76FA-99E1-42B6-B43A-F895BB5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503-73B9-4B99-B72C-9C138E34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C5A1D-F3DB-4728-BEF4-E37B7FD4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B7E6-4FAE-4D49-A1DC-A445ED2A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C92C9-8EE4-4E32-A39A-53ECD4C6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2F6C8-593F-402D-B24B-8E0B6C2F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445F6-76E1-4BB1-9117-9D2D52DD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889-F3C7-4516-BDCD-452837E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Ane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Ane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ttango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2338-0589-45DC-B2CE-3C08087F26C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ttango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Ane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Ane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ttango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tango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e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e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9BC6-DF5E-4752-A618-445FD7E88E2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tango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e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e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9AAB-ECAE-4736-81D7-6F65282DF59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1052-B836-4512-88E3-0641CF6D8E2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ttango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tango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B31A-AAC0-45C0-B09F-07A5408820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4F10-2512-49C9-8911-2A5F80C4422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ttangolo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ttangolo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Elaborazione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laborazione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4EF2-1E13-4891-A947-DDE09ECFE99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rimopachino.it/" TargetMode="External"/><Relationship Id="rId2" Type="http://schemas.openxmlformats.org/officeDocument/2006/relationships/hyperlink" Target="mailto:sris01400g@istruzione.it" TargetMode="External"/><Relationship Id="rId3" Type="http://schemas.openxmlformats.org/officeDocument/2006/relationships/hyperlink" Target="mailto:sris01400g@ec.it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CasellaDiTesto 4"/>
          <p:cNvSpPr/>
          <p:nvPr/>
        </p:nvSpPr>
        <p:spPr>
          <a:xfrm>
            <a:off x="1500120" y="6143760"/>
            <a:ext cx="307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asellaDiTesto 5"/>
          <p:cNvSpPr/>
          <p:nvPr/>
        </p:nvSpPr>
        <p:spPr>
          <a:xfrm>
            <a:off x="1357200" y="1917720"/>
            <a:ext cx="750096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it-IT" sz="1000" spc="-1" strike="noStrike">
                <a:solidFill>
                  <a:srgbClr val="000000"/>
                </a:solidFill>
                <a:latin typeface="Gill Sans MT"/>
              </a:rPr>
              <a:t>LICEO Scientifico – LICEO Scientifico Tecnologico – LICEO delle Scienze Um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Gill Sans MT"/>
              </a:rPr>
              <a:t>ITIS (Meccanica, Meccatronica e Energia- Elettronica ed Elettrotecnica – Informatica e Telecomunicazion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Gill Sans MT"/>
              </a:rPr>
              <a:t>ITIS Serale (Meccanica, Meccatronica e Energia- Elettronica ed Elettrotecnica – Informatica e Telecomunicazion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Gill Sans MT"/>
              </a:rPr>
              <a:t>Viale A. Moro – 96018 PACHINO (SR) – Tel.e fax 0931/020131 – 0931 0201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Gill Sans MT"/>
              </a:rPr>
              <a:t>Via Fiume – 96018 PACHINO (SR)- Tel. E fax 0931 8463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www.primopachino.it</a:t>
            </a:r>
            <a:r>
              <a:rPr b="1" i="1" lang="en-US" sz="1000" spc="-1" strike="noStrike">
                <a:solidFill>
                  <a:srgbClr val="000000"/>
                </a:solidFill>
                <a:latin typeface="Gill Sans MT"/>
              </a:rPr>
              <a:t> – Email </a:t>
            </a:r>
            <a:r>
              <a:rPr b="0" lang="en-US" sz="1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sris01400g@istruzione.it</a:t>
            </a:r>
            <a:r>
              <a:rPr b="1" i="1" lang="en-US" sz="1000" spc="-1" strike="noStrike">
                <a:solidFill>
                  <a:srgbClr val="000000"/>
                </a:solidFill>
                <a:latin typeface="Gill Sans MT"/>
              </a:rPr>
              <a:t> – </a:t>
            </a:r>
            <a:r>
              <a:rPr b="0" lang="en-US" sz="10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sris01400g@ec.it</a:t>
            </a:r>
            <a:r>
              <a:rPr b="1" i="1" lang="en-US" sz="1000" spc="-1" strike="noStrike">
                <a:solidFill>
                  <a:srgbClr val="000000"/>
                </a:solidFill>
                <a:latin typeface="Gill Sans MT"/>
              </a:rPr>
              <a:t> – C. F. 830029108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Programma operativo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2007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Fondo Sociale Europ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Competenze per lo Sviluppo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Bando: AOODGAI/5368 del 21.10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Obiettivo “C” – Migliorare i livelli di conoscenza e competenza dei giova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AZ.C1 – Interventi per lo sviluppo delle competenze chiave (comunicazione n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madrelingua, comunicazione nelle lingue straniere, competenza matematica e competenza d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base in scienza e tecnologia, competenza digitale, imparare ad apprendere, competenze soc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e civiche , spirito d’iniziativa e imprenditorialità, consapevolezza ed espressione cultur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Codice progetto: C-1-FSE-2009-38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attività cofinanziata dal Fondo Sociale Europeo e realizzata nell’ambito del Programma Opera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Gill Sans MT"/>
              </a:rPr>
              <a:t>Nazionale “Competenze per lo Sviluppo” 2007-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Gill Sans MT"/>
              </a:rPr>
              <a:t>CORSO BASE DI ELETTR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Gill Sans MT"/>
              </a:rPr>
              <a:t>(competenze digit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Gill Sans MT"/>
              </a:rPr>
              <a:t>ALGEBRA DI BO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2060"/>
                </a:solidFill>
                <a:latin typeface="Gill Sans MT"/>
              </a:rPr>
              <a:t>Rel. Prof. Sebastiano Gianni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4"/>
          <a:stretch/>
        </p:blipFill>
        <p:spPr>
          <a:xfrm>
            <a:off x="1857240" y="0"/>
            <a:ext cx="6429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9" descr=""/>
          <p:cNvPicPr/>
          <p:nvPr/>
        </p:nvPicPr>
        <p:blipFill>
          <a:blip r:embed="rId1"/>
          <a:stretch/>
        </p:blipFill>
        <p:spPr>
          <a:xfrm>
            <a:off x="1500120" y="2143080"/>
            <a:ext cx="5639040" cy="3835440"/>
          </a:xfrm>
          <a:prstGeom prst="rect">
            <a:avLst/>
          </a:prstGeom>
          <a:ln w="0">
            <a:noFill/>
          </a:ln>
        </p:spPr>
      </p:pic>
      <p:sp>
        <p:nvSpPr>
          <p:cNvPr id="364" name="Titolo 1"/>
          <p:cNvSpPr/>
          <p:nvPr/>
        </p:nvSpPr>
        <p:spPr>
          <a:xfrm>
            <a:off x="1584360" y="5126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Esercizi: tabelle della ver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500120" y="1285920"/>
            <a:ext cx="5664240" cy="774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4929120" y="2286000"/>
            <a:ext cx="2336760" cy="622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1346040" cy="2934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"/>
          <p:cNvPicPr/>
          <p:nvPr/>
        </p:nvPicPr>
        <p:blipFill>
          <a:blip r:embed="rId5"/>
          <a:stretch/>
        </p:blipFill>
        <p:spPr>
          <a:xfrm>
            <a:off x="6770520" y="3479760"/>
            <a:ext cx="1016280" cy="2806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"/>
          <p:cNvPicPr/>
          <p:nvPr/>
        </p:nvPicPr>
        <p:blipFill>
          <a:blip r:embed="rId6"/>
          <a:stretch/>
        </p:blipFill>
        <p:spPr>
          <a:xfrm>
            <a:off x="5796000" y="3436920"/>
            <a:ext cx="990720" cy="29210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7"/>
          <a:stretch/>
        </p:blipFill>
        <p:spPr>
          <a:xfrm>
            <a:off x="7929720" y="3505320"/>
            <a:ext cx="393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1568520" y="1244520"/>
            <a:ext cx="6006960" cy="4368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357800" y="2714760"/>
            <a:ext cx="3174840" cy="2882880"/>
          </a:xfrm>
          <a:prstGeom prst="rect">
            <a:avLst/>
          </a:prstGeom>
          <a:ln w="0">
            <a:noFill/>
          </a:ln>
        </p:spPr>
      </p:pic>
      <p:sp>
        <p:nvSpPr>
          <p:cNvPr id="373" name="Titolo 1"/>
          <p:cNvSpPr/>
          <p:nvPr/>
        </p:nvSpPr>
        <p:spPr>
          <a:xfrm>
            <a:off x="1584360" y="5126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Esercizi: tabelle della ver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itolo 1"/>
          <p:cNvSpPr/>
          <p:nvPr/>
        </p:nvSpPr>
        <p:spPr>
          <a:xfrm>
            <a:off x="1584360" y="5126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ill Sans MT"/>
              </a:rPr>
              <a:t>Esercizi proposti sulla semplificazione delle espres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357200" y="1357200"/>
            <a:ext cx="6488280" cy="2806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1571760" y="4357800"/>
            <a:ext cx="5918040" cy="2235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http://88.53.219.99/liceocutelli/didattica/digiscuola/Italiano/Fonologia/divisione_sillabe/shell/img/pulsante_verifica.gif"/>
          <p:cNvPicPr/>
          <p:nvPr/>
        </p:nvPicPr>
        <p:blipFill>
          <a:blip r:embed="rId3"/>
          <a:stretch/>
        </p:blipFill>
        <p:spPr>
          <a:xfrm>
            <a:off x="1214280" y="214200"/>
            <a:ext cx="80964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tolo 1"/>
          <p:cNvSpPr/>
          <p:nvPr/>
        </p:nvSpPr>
        <p:spPr>
          <a:xfrm>
            <a:off x="1584360" y="5126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Esercizi  funzioni boole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500120" y="1357200"/>
            <a:ext cx="586764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6773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Gill Sans MT"/>
              </a:rPr>
              <a:t>Applicazione dei teoremi dell’algebra boolean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266840" y="1571760"/>
            <a:ext cx="7877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b050"/>
                </a:solidFill>
                <a:latin typeface="Gill Sans MT"/>
              </a:rPr>
              <a:t>Universalità</a:t>
            </a:r>
            <a:r>
              <a:rPr b="0" lang="it-IT" sz="43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it-IT" sz="2800" spc="-1" strike="noStrike">
                <a:solidFill>
                  <a:srgbClr val="00b050"/>
                </a:solidFill>
                <a:latin typeface="Gill Sans MT"/>
              </a:rPr>
              <a:t>delle</a:t>
            </a:r>
            <a:r>
              <a:rPr b="0" lang="it-IT" sz="43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it-IT" sz="2800" spc="-1" strike="noStrike">
                <a:solidFill>
                  <a:srgbClr val="00b050"/>
                </a:solidFill>
                <a:latin typeface="Gill Sans MT"/>
              </a:rPr>
              <a:t>porte</a:t>
            </a:r>
            <a:r>
              <a:rPr b="0" lang="it-IT" sz="43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it-IT" sz="2800" spc="-1" strike="noStrike">
                <a:solidFill>
                  <a:srgbClr val="00b050"/>
                </a:solidFill>
                <a:latin typeface="Gill Sans MT"/>
              </a:rPr>
              <a:t>NAND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83" name="Group 14"/>
          <p:cNvGrpSpPr/>
          <p:nvPr/>
        </p:nvGrpSpPr>
        <p:grpSpPr>
          <a:xfrm>
            <a:off x="1142640" y="2057400"/>
            <a:ext cx="7696440" cy="4203720"/>
            <a:chOff x="1142640" y="2057400"/>
            <a:chExt cx="7696440" cy="4203720"/>
          </a:xfrm>
        </p:grpSpPr>
        <p:grpSp>
          <p:nvGrpSpPr>
            <p:cNvPr id="384" name="Group 10"/>
            <p:cNvGrpSpPr/>
            <p:nvPr/>
          </p:nvGrpSpPr>
          <p:grpSpPr>
            <a:xfrm>
              <a:off x="1142640" y="2057400"/>
              <a:ext cx="7010280" cy="3809880"/>
              <a:chOff x="1142640" y="2057400"/>
              <a:chExt cx="7010280" cy="3809880"/>
            </a:xfrm>
          </p:grpSpPr>
          <p:grpSp>
            <p:nvGrpSpPr>
              <p:cNvPr id="385" name="Group 3"/>
              <p:cNvGrpSpPr/>
              <p:nvPr/>
            </p:nvGrpSpPr>
            <p:grpSpPr>
              <a:xfrm>
                <a:off x="1142640" y="2057400"/>
                <a:ext cx="7010280" cy="3809880"/>
                <a:chOff x="1142640" y="2057400"/>
                <a:chExt cx="7010280" cy="3809880"/>
              </a:xfrm>
            </p:grpSpPr>
            <p:pic>
              <p:nvPicPr>
                <p:cNvPr id="386" name="Picture 4" descr="nandcomp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42640" y="2057400"/>
                  <a:ext cx="7010280" cy="380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7" name="Text Box 5"/>
                <p:cNvSpPr/>
                <p:nvPr/>
              </p:nvSpPr>
              <p:spPr>
                <a:xfrm>
                  <a:off x="3496680" y="2619000"/>
                  <a:ext cx="2670480" cy="14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quivale a un NO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Text Box 8"/>
              <p:cNvSpPr/>
              <p:nvPr/>
            </p:nvSpPr>
            <p:spPr>
              <a:xfrm>
                <a:off x="1159200" y="4191120"/>
                <a:ext cx="21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quivale a un 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9"/>
              <p:cNvSpPr/>
              <p:nvPr/>
            </p:nvSpPr>
            <p:spPr>
              <a:xfrm>
                <a:off x="5909760" y="3962520"/>
                <a:ext cx="196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quivale a un 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Object 2"/>
                <p:cNvSpPr txBox="1"/>
                <p:nvPr/>
              </p:nvSpPr>
              <p:spPr>
                <a:xfrm>
                  <a:off x="6248520" y="2057400"/>
                  <a:ext cx="100944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Object 3"/>
                <p:cNvSpPr txBox="1"/>
                <p:nvPr/>
              </p:nvSpPr>
              <p:spPr>
                <a:xfrm>
                  <a:off x="1643040" y="5638680"/>
                  <a:ext cx="16430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Object 4"/>
                <p:cNvSpPr txBox="1"/>
                <p:nvPr/>
              </p:nvSpPr>
              <p:spPr>
                <a:xfrm>
                  <a:off x="6324480" y="5810400"/>
                  <a:ext cx="25146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e>
                          </m:bar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A</m:t>
                              </m:r>
                            </m:e>
                          </m:ba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B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5981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b050"/>
                </a:solidFill>
                <a:latin typeface="Gill Sans MT"/>
              </a:rPr>
              <a:t>Uso: ottimizzare</a:t>
            </a:r>
            <a:r>
              <a:rPr b="0" lang="it-IT" sz="43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it-IT" sz="2800" spc="-1" strike="noStrike">
                <a:solidFill>
                  <a:srgbClr val="00b050"/>
                </a:solidFill>
                <a:latin typeface="Gill Sans MT"/>
              </a:rPr>
              <a:t>utilizzo</a:t>
            </a:r>
            <a:r>
              <a:rPr b="0" lang="it-IT" sz="43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it-IT" sz="2800" spc="-1" strike="noStrike">
                <a:solidFill>
                  <a:srgbClr val="00b050"/>
                </a:solidFill>
                <a:latin typeface="Gill Sans MT"/>
              </a:rPr>
              <a:t>integrati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94" name="Group 37"/>
          <p:cNvGrpSpPr/>
          <p:nvPr/>
        </p:nvGrpSpPr>
        <p:grpSpPr>
          <a:xfrm>
            <a:off x="1092240" y="1714680"/>
            <a:ext cx="7843320" cy="4863960"/>
            <a:chOff x="1092240" y="1714680"/>
            <a:chExt cx="7843320" cy="4863960"/>
          </a:xfrm>
        </p:grpSpPr>
        <mc:AlternateContent>
          <mc:Choice xmlns:a14="http://schemas.microsoft.com/office/drawing/2010/main" Requires="a14">
            <p:sp>
              <p:nvSpPr>
                <p:cNvPr id="395" name="Object 2"/>
                <p:cNvSpPr txBox="1"/>
                <p:nvPr/>
              </p:nvSpPr>
              <p:spPr>
                <a:xfrm>
                  <a:off x="1404720" y="4915080"/>
                  <a:ext cx="2819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  <m:r>
                        <m:t xml:space="preserve">B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A</m:t>
                              </m:r>
                            </m:e>
                          </m:ba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bar>
                            <m:barPr>
                              <m:pos m:val="top"/>
                            </m:barPr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A</m:t>
                                  </m:r>
                                </m:e>
                              </m:bar>
                              <m:r>
                                <m:t xml:space="preserve">⋅</m:t>
                              </m:r>
                              <m:r>
                                <m:t xml:space="preserve">B</m:t>
                              </m:r>
                            </m:e>
                          </m:bar>
                          <m:r>
                            <m:t xml:space="preserve">)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pic>
          <p:nvPicPr>
            <p:cNvPr id="396" name="Picture 6" descr="3-10"/>
            <p:cNvPicPr/>
            <p:nvPr/>
          </p:nvPicPr>
          <p:blipFill>
            <a:blip r:embed="rId1"/>
            <a:stretch/>
          </p:blipFill>
          <p:spPr>
            <a:xfrm>
              <a:off x="1092240" y="1714680"/>
              <a:ext cx="4051080" cy="245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7" name="Group 35"/>
            <p:cNvGrpSpPr/>
            <p:nvPr/>
          </p:nvGrpSpPr>
          <p:grpSpPr>
            <a:xfrm>
              <a:off x="4757400" y="1866960"/>
              <a:ext cx="4178160" cy="4266720"/>
              <a:chOff x="4757400" y="1866960"/>
              <a:chExt cx="4178160" cy="4266720"/>
            </a:xfrm>
          </p:grpSpPr>
          <mc:AlternateContent>
            <mc:Choice xmlns:a14="http://schemas.microsoft.com/office/drawing/2010/main" Requires="a14">
              <p:sp>
                <p:nvSpPr>
                  <p:cNvPr id="398" name="Object 3"/>
                  <p:cNvSpPr txBox="1"/>
                  <p:nvPr/>
                </p:nvSpPr>
                <p:spPr>
                  <a:xfrm>
                    <a:off x="4757400" y="2768400"/>
                    <a:ext cx="101520" cy="177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pic>
            <p:nvPicPr>
              <p:cNvPr id="399" name="Picture 7" descr="3-10"/>
              <p:cNvPicPr/>
              <p:nvPr/>
            </p:nvPicPr>
            <p:blipFill>
              <a:blip r:embed="rId2"/>
              <a:stretch/>
            </p:blipFill>
            <p:spPr>
              <a:xfrm>
                <a:off x="4884480" y="3314520"/>
                <a:ext cx="4051080" cy="245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Line 8"/>
              <p:cNvSpPr/>
              <p:nvPr/>
            </p:nvSpPr>
            <p:spPr>
              <a:xfrm>
                <a:off x="6027480" y="308592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9"/>
              <p:cNvSpPr/>
              <p:nvPr/>
            </p:nvSpPr>
            <p:spPr>
              <a:xfrm>
                <a:off x="6027480" y="3085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0"/>
              <p:cNvSpPr/>
              <p:nvPr/>
            </p:nvSpPr>
            <p:spPr>
              <a:xfrm>
                <a:off x="6484680" y="308592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11"/>
              <p:cNvSpPr/>
              <p:nvPr/>
            </p:nvSpPr>
            <p:spPr>
              <a:xfrm>
                <a:off x="6179760" y="2476440"/>
                <a:ext cx="0" cy="609120"/>
              </a:xfrm>
              <a:prstGeom prst="line">
                <a:avLst/>
              </a:prstGeom>
              <a:ln w="57240">
                <a:solidFill>
                  <a:srgbClr val="feb8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12"/>
              <p:cNvSpPr/>
              <p:nvPr/>
            </p:nvSpPr>
            <p:spPr>
              <a:xfrm>
                <a:off x="5986800" y="20192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13"/>
              <p:cNvSpPr/>
              <p:nvPr/>
            </p:nvSpPr>
            <p:spPr>
              <a:xfrm>
                <a:off x="6865560" y="30096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14"/>
              <p:cNvSpPr/>
              <p:nvPr/>
            </p:nvSpPr>
            <p:spPr>
              <a:xfrm>
                <a:off x="6865560" y="3009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5"/>
              <p:cNvSpPr/>
              <p:nvPr/>
            </p:nvSpPr>
            <p:spPr>
              <a:xfrm>
                <a:off x="7322760" y="30096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6"/>
              <p:cNvSpPr/>
              <p:nvPr/>
            </p:nvSpPr>
            <p:spPr>
              <a:xfrm>
                <a:off x="7703640" y="2400120"/>
                <a:ext cx="0" cy="1066320"/>
              </a:xfrm>
              <a:prstGeom prst="line">
                <a:avLst/>
              </a:prstGeom>
              <a:ln w="57240">
                <a:solidFill>
                  <a:srgbClr val="feb8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17"/>
              <p:cNvSpPr/>
              <p:nvPr/>
            </p:nvSpPr>
            <p:spPr>
              <a:xfrm>
                <a:off x="7502040" y="20192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0" name="Object 4"/>
                  <p:cNvSpPr txBox="1"/>
                  <p:nvPr/>
                </p:nvSpPr>
                <p:spPr>
                  <a:xfrm>
                    <a:off x="7017840" y="2552400"/>
                    <a:ext cx="333360" cy="393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1" name="Object 5"/>
                  <p:cNvSpPr txBox="1"/>
                  <p:nvPr/>
                </p:nvSpPr>
                <p:spPr>
                  <a:xfrm>
                    <a:off x="7932240" y="2857320"/>
                    <a:ext cx="457200" cy="38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  <m:r>
                              <m:t xml:space="preserve">B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2" name="Line 20"/>
              <p:cNvSpPr/>
              <p:nvPr/>
            </p:nvSpPr>
            <p:spPr>
              <a:xfrm flipV="1">
                <a:off x="7017840" y="18669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21"/>
              <p:cNvSpPr/>
              <p:nvPr/>
            </p:nvSpPr>
            <p:spPr>
              <a:xfrm flipH="1">
                <a:off x="5036400" y="186696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5036760" y="1866960"/>
                <a:ext cx="0" cy="41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3"/>
              <p:cNvSpPr/>
              <p:nvPr/>
            </p:nvSpPr>
            <p:spPr>
              <a:xfrm>
                <a:off x="5036760" y="598140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24"/>
              <p:cNvSpPr/>
              <p:nvPr/>
            </p:nvSpPr>
            <p:spPr>
              <a:xfrm flipV="1">
                <a:off x="6941880" y="560016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25"/>
              <p:cNvSpPr/>
              <p:nvPr/>
            </p:nvSpPr>
            <p:spPr>
              <a:xfrm flipV="1">
                <a:off x="8160840" y="331452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26"/>
              <p:cNvSpPr/>
              <p:nvPr/>
            </p:nvSpPr>
            <p:spPr>
              <a:xfrm>
                <a:off x="8160840" y="33145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27"/>
              <p:cNvSpPr/>
              <p:nvPr/>
            </p:nvSpPr>
            <p:spPr>
              <a:xfrm>
                <a:off x="8922960" y="3314520"/>
                <a:ext cx="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28"/>
              <p:cNvSpPr/>
              <p:nvPr/>
            </p:nvSpPr>
            <p:spPr>
              <a:xfrm flipH="1">
                <a:off x="7322400" y="590544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29"/>
              <p:cNvSpPr/>
              <p:nvPr/>
            </p:nvSpPr>
            <p:spPr>
              <a:xfrm flipV="1">
                <a:off x="7322760" y="5600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30"/>
              <p:cNvSpPr/>
              <p:nvPr/>
            </p:nvSpPr>
            <p:spPr>
              <a:xfrm>
                <a:off x="7779960" y="5600520"/>
                <a:ext cx="0" cy="533160"/>
              </a:xfrm>
              <a:prstGeom prst="line">
                <a:avLst/>
              </a:prstGeom>
              <a:ln w="38160">
                <a:solidFill>
                  <a:srgbClr val="feb8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32"/>
              <p:cNvSpPr/>
              <p:nvPr/>
            </p:nvSpPr>
            <p:spPr>
              <a:xfrm flipV="1">
                <a:off x="6941880" y="560016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33"/>
              <p:cNvSpPr/>
              <p:nvPr/>
            </p:nvSpPr>
            <p:spPr>
              <a:xfrm flipV="1">
                <a:off x="7322760" y="5600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34"/>
              <p:cNvSpPr/>
              <p:nvPr/>
            </p:nvSpPr>
            <p:spPr>
              <a:xfrm>
                <a:off x="7322760" y="30096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Text Box 36"/>
            <p:cNvSpPr/>
            <p:nvPr/>
          </p:nvSpPr>
          <p:spPr>
            <a:xfrm>
              <a:off x="7612560" y="6210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Gill Sans MT"/>
              </a:rPr>
              <a:t>Dalla</a:t>
            </a: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Gill Sans MT"/>
              </a:rPr>
              <a:t>tabella</a:t>
            </a:r>
            <a:r>
              <a:rPr b="0" lang="en-GB" sz="2500" spc="-1" strike="noStrike">
                <a:solidFill>
                  <a:srgbClr val="00b050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Gill Sans MT"/>
              </a:rPr>
              <a:t>della</a:t>
            </a:r>
            <a:r>
              <a:rPr b="0" lang="en-GB" sz="2500" spc="-1" strike="noStrike">
                <a:solidFill>
                  <a:srgbClr val="00b050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Gill Sans MT"/>
              </a:rPr>
              <a:t>verità</a:t>
            </a:r>
            <a:r>
              <a:rPr b="0" lang="en-GB" sz="2500" spc="-1" strike="noStrike">
                <a:solidFill>
                  <a:srgbClr val="00b050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Gill Sans MT"/>
              </a:rPr>
              <a:t>alla</a:t>
            </a: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Gill Sans MT"/>
              </a:rPr>
              <a:t>espressione</a:t>
            </a: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Gill Sans MT"/>
              </a:rPr>
              <a:t>booleana in forma canonica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Mintermini, maxtermini e forme canonic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Dalla Tabella della verità alle forme canonic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29" name="Object 2"/>
          <p:cNvGraphicFramePr/>
          <p:nvPr/>
        </p:nvGraphicFramePr>
        <p:xfrm>
          <a:off x="1214280" y="2714760"/>
          <a:ext cx="5597640" cy="357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714760"/>
                    <a:ext cx="5597640" cy="35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Text Box 4"/>
          <p:cNvSpPr/>
          <p:nvPr/>
        </p:nvSpPr>
        <p:spPr>
          <a:xfrm>
            <a:off x="3500280" y="3324240"/>
            <a:ext cx="39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termin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5176800" y="3341520"/>
                <a:ext cx="3733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</m:ba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</m:bar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3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</m:ba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2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</m:ba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Text Box 6"/>
          <p:cNvSpPr/>
          <p:nvPr/>
        </p:nvSpPr>
        <p:spPr>
          <a:xfrm>
            <a:off x="3664440" y="46036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termin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5253120" y="4619520"/>
                <a:ext cx="2971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</m:bar>
                    <m:r>
                      <m:t xml:space="preserve">x</m:t>
                    </m:r>
                    <m:r>
                      <m:t xml:space="preserve">2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</m:bar>
                    <m:r>
                      <m:t xml:space="preserve">x</m:t>
                    </m:r>
                    <m:r>
                      <m:t xml:space="preserve">3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5" name="Rectangle 2"/>
          <p:cNvSpPr/>
          <p:nvPr/>
        </p:nvSpPr>
        <p:spPr>
          <a:xfrm>
            <a:off x="1214280" y="2071800"/>
            <a:ext cx="749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72314"/>
                </a:solidFill>
                <a:latin typeface="Gill Sans MT"/>
              </a:rPr>
              <a:t>Ese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b050"/>
                </a:solidFill>
                <a:latin typeface="Gill Sans MT"/>
              </a:rPr>
              <a:t>Esempio</a:t>
            </a: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GB" sz="2500" spc="-1" strike="noStrike">
                <a:solidFill>
                  <a:srgbClr val="00b050"/>
                </a:solidFill>
                <a:latin typeface="Gill Sans MT"/>
              </a:rPr>
              <a:t>di forma canonica disgiunta (1)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214280"/>
            <a:ext cx="7695360" cy="3574800"/>
            <a:chOff x="1143000" y="1214280"/>
            <a:chExt cx="7695360" cy="3574800"/>
          </a:xfrm>
        </p:grpSpPr>
        <p:graphicFrame>
          <p:nvGraphicFramePr>
            <p:cNvPr id="438" name="Object 4"/>
            <p:cNvGraphicFramePr/>
            <p:nvPr/>
          </p:nvGraphicFramePr>
          <p:xfrm>
            <a:off x="1143000" y="1214280"/>
            <a:ext cx="5597280" cy="35748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1214280"/>
                      <a:ext cx="5597280" cy="357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Group 5"/>
            <p:cNvGrpSpPr/>
            <p:nvPr/>
          </p:nvGrpSpPr>
          <p:grpSpPr>
            <a:xfrm>
              <a:off x="3428280" y="1823760"/>
              <a:ext cx="5410080" cy="1666800"/>
              <a:chOff x="3428280" y="1823760"/>
              <a:chExt cx="5410080" cy="1666800"/>
            </a:xfrm>
          </p:grpSpPr>
          <p:sp>
            <p:nvSpPr>
              <p:cNvPr id="441" name="Text Box 6"/>
              <p:cNvSpPr/>
              <p:nvPr/>
            </p:nvSpPr>
            <p:spPr>
              <a:xfrm>
                <a:off x="3428280" y="1823760"/>
                <a:ext cx="393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intermini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2" name="Object 5"/>
                  <p:cNvSpPr txBox="1"/>
                  <p:nvPr/>
                </p:nvSpPr>
                <p:spPr>
                  <a:xfrm>
                    <a:off x="5104800" y="1841400"/>
                    <a:ext cx="373356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Text Box 8"/>
              <p:cNvSpPr/>
              <p:nvPr/>
            </p:nvSpPr>
            <p:spPr>
              <a:xfrm>
                <a:off x="3592800" y="3103200"/>
                <a:ext cx="142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xtermini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4" name="Object 6"/>
                  <p:cNvSpPr txBox="1"/>
                  <p:nvPr/>
                </p:nvSpPr>
                <p:spPr>
                  <a:xfrm>
                    <a:off x="5181120" y="3119040"/>
                    <a:ext cx="297144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2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3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1785960" y="5932440"/>
                <a:ext cx="601992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cd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fc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3</m:t>
                                </m:r>
                              </m:e>
                            </m:ba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2</m:t>
                                </m:r>
                              </m:e>
                            </m:ba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  <m:r>
                          <m:t xml:space="preserve">)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3</m:t>
                                </m:r>
                              </m:e>
                            </m:bar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  <m:r>
                          <m:t xml:space="preserve">)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2</m:t>
                                </m:r>
                              </m:e>
                            </m:ba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7" name="CasellaDiTesto 11"/>
          <p:cNvSpPr/>
          <p:nvPr/>
        </p:nvSpPr>
        <p:spPr>
          <a:xfrm>
            <a:off x="1285920" y="47862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forma canonica disgiunta è data dalla somma dei mintermini, ossia dal loro 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3"/>
          <p:cNvGrpSpPr/>
          <p:nvPr/>
        </p:nvGrpSpPr>
        <p:grpSpPr>
          <a:xfrm>
            <a:off x="1143000" y="1214280"/>
            <a:ext cx="7695360" cy="3574800"/>
            <a:chOff x="1143000" y="1214280"/>
            <a:chExt cx="7695360" cy="3574800"/>
          </a:xfrm>
        </p:grpSpPr>
        <p:graphicFrame>
          <p:nvGraphicFramePr>
            <p:cNvPr id="449" name="Object 4"/>
            <p:cNvGraphicFramePr/>
            <p:nvPr/>
          </p:nvGraphicFramePr>
          <p:xfrm>
            <a:off x="1143000" y="1214280"/>
            <a:ext cx="5597280" cy="35748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5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1214280"/>
                      <a:ext cx="5597280" cy="357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51" name="Group 5"/>
            <p:cNvGrpSpPr/>
            <p:nvPr/>
          </p:nvGrpSpPr>
          <p:grpSpPr>
            <a:xfrm>
              <a:off x="3428280" y="1823760"/>
              <a:ext cx="5410080" cy="1666800"/>
              <a:chOff x="3428280" y="1823760"/>
              <a:chExt cx="5410080" cy="1666800"/>
            </a:xfrm>
          </p:grpSpPr>
          <p:sp>
            <p:nvSpPr>
              <p:cNvPr id="452" name="Text Box 6"/>
              <p:cNvSpPr/>
              <p:nvPr/>
            </p:nvSpPr>
            <p:spPr>
              <a:xfrm>
                <a:off x="3428280" y="1823760"/>
                <a:ext cx="393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intermini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3" name="Object 5"/>
                  <p:cNvSpPr txBox="1"/>
                  <p:nvPr/>
                </p:nvSpPr>
                <p:spPr>
                  <a:xfrm>
                    <a:off x="5104800" y="1841400"/>
                    <a:ext cx="373356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4" name="Text Box 8"/>
              <p:cNvSpPr/>
              <p:nvPr/>
            </p:nvSpPr>
            <p:spPr>
              <a:xfrm>
                <a:off x="3592800" y="3103200"/>
                <a:ext cx="142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xtermini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5" name="Object 6"/>
                  <p:cNvSpPr txBox="1"/>
                  <p:nvPr/>
                </p:nvSpPr>
                <p:spPr>
                  <a:xfrm>
                    <a:off x="5181120" y="3119040"/>
                    <a:ext cx="297144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2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</m:bar>
                        <m:r>
                          <m:t xml:space="preserve">x</m:t>
                        </m:r>
                        <m:r>
                          <m:t xml:space="preserve">3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7" name="CasellaDiTesto 11"/>
          <p:cNvSpPr/>
          <p:nvPr/>
        </p:nvSpPr>
        <p:spPr>
          <a:xfrm>
            <a:off x="1285920" y="47862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forma canonica congiunta è data dal prodotto dei maxtermini negati , cioè dal loro AN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7" descr=""/>
          <p:cNvPicPr/>
          <p:nvPr/>
        </p:nvPicPr>
        <p:blipFill>
          <a:blip r:embed="rId3"/>
          <a:stretch/>
        </p:blipFill>
        <p:spPr>
          <a:xfrm>
            <a:off x="1071720" y="5500800"/>
            <a:ext cx="5194080" cy="1155600"/>
          </a:xfrm>
          <a:prstGeom prst="rect">
            <a:avLst/>
          </a:prstGeom>
          <a:ln w="0">
            <a:noFill/>
          </a:ln>
        </p:spPr>
      </p:pic>
      <p:sp>
        <p:nvSpPr>
          <p:cNvPr id="459" name="CasellaDiTesto 13"/>
          <p:cNvSpPr/>
          <p:nvPr/>
        </p:nvSpPr>
        <p:spPr>
          <a:xfrm>
            <a:off x="6143760" y="52149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ndo De M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8" descr=""/>
          <p:cNvPicPr/>
          <p:nvPr/>
        </p:nvPicPr>
        <p:blipFill>
          <a:blip r:embed="rId4"/>
          <a:stretch/>
        </p:blipFill>
        <p:spPr>
          <a:xfrm>
            <a:off x="6429240" y="5572080"/>
            <a:ext cx="1892520" cy="5587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"/>
          <p:cNvPicPr/>
          <p:nvPr/>
        </p:nvPicPr>
        <p:blipFill>
          <a:blip r:embed="rId5"/>
          <a:stretch/>
        </p:blipFill>
        <p:spPr>
          <a:xfrm>
            <a:off x="6429240" y="6072120"/>
            <a:ext cx="1917720" cy="546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0" descr=""/>
          <p:cNvPicPr/>
          <p:nvPr/>
        </p:nvPicPr>
        <p:blipFill>
          <a:blip r:embed="rId6"/>
          <a:stretch/>
        </p:blipFill>
        <p:spPr>
          <a:xfrm>
            <a:off x="8166240" y="6286680"/>
            <a:ext cx="977760" cy="241200"/>
          </a:xfrm>
          <a:prstGeom prst="rect">
            <a:avLst/>
          </a:prstGeom>
          <a:ln w="0">
            <a:noFill/>
          </a:ln>
        </p:spPr>
      </p:pic>
      <p:sp>
        <p:nvSpPr>
          <p:cNvPr id="463" name="Rettangolo 17"/>
          <p:cNvSpPr/>
          <p:nvPr/>
        </p:nvSpPr>
        <p:spPr>
          <a:xfrm>
            <a:off x="818640" y="500040"/>
            <a:ext cx="625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b050"/>
                </a:solidFill>
                <a:latin typeface="Gill Sans MT"/>
              </a:rPr>
              <a:t>Esempio di forma canonica congiunta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431720" y="100008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Titolo 1"/>
          <p:cNvSpPr/>
          <p:nvPr/>
        </p:nvSpPr>
        <p:spPr>
          <a:xfrm>
            <a:off x="1584360" y="5126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Algebra Boole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60195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ttangolo 3"/>
          <p:cNvSpPr/>
          <p:nvPr/>
        </p:nvSpPr>
        <p:spPr>
          <a:xfrm>
            <a:off x="643320" y="500040"/>
            <a:ext cx="9038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b050"/>
                </a:solidFill>
                <a:latin typeface="Gill Sans MT"/>
              </a:rPr>
              <a:t>Procedura per determinare la forma canonica congiunta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ttangolo 4"/>
          <p:cNvSpPr/>
          <p:nvPr/>
        </p:nvSpPr>
        <p:spPr>
          <a:xfrm>
            <a:off x="1285920" y="150012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onsiderano i maxtermini in c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ogni variabile =1, facciamo corrispondere la variabile neg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per ogni  variabile =0  la variabile medesima non neg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 si fa l’AND dei maxtermini precedentemente modific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 010  x2x1x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Object 2"/>
          <p:cNvGraphicFramePr/>
          <p:nvPr/>
        </p:nvGraphicFramePr>
        <p:xfrm>
          <a:off x="1285920" y="2928960"/>
          <a:ext cx="5597640" cy="35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928960"/>
                    <a:ext cx="559764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8" name="Picture 3" descr=""/>
          <p:cNvPicPr/>
          <p:nvPr/>
        </p:nvPicPr>
        <p:blipFill>
          <a:blip r:embed="rId3"/>
          <a:stretch/>
        </p:blipFill>
        <p:spPr>
          <a:xfrm>
            <a:off x="4241880" y="3643200"/>
            <a:ext cx="4902120" cy="6224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4"/>
          <a:stretch/>
        </p:blipFill>
        <p:spPr>
          <a:xfrm>
            <a:off x="3500280" y="3643200"/>
            <a:ext cx="88920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1720" y="100008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Titolo 1"/>
          <p:cNvSpPr/>
          <p:nvPr/>
        </p:nvSpPr>
        <p:spPr>
          <a:xfrm>
            <a:off x="1584360" y="5126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Algebra Boole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879560" y="1098720"/>
            <a:ext cx="538488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431720" y="100008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Titolo 1"/>
          <p:cNvSpPr/>
          <p:nvPr/>
        </p:nvSpPr>
        <p:spPr>
          <a:xfrm>
            <a:off x="1584360" y="5126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Circuiti Log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48387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itolo 1"/>
          <p:cNvSpPr/>
          <p:nvPr/>
        </p:nvSpPr>
        <p:spPr>
          <a:xfrm>
            <a:off x="1584360" y="5126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Dalla funzione booleana alla tabella della ver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500120" y="1079640"/>
            <a:ext cx="60008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itolo 1"/>
          <p:cNvSpPr/>
          <p:nvPr/>
        </p:nvSpPr>
        <p:spPr>
          <a:xfrm>
            <a:off x="1584360" y="5126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Costruzione di tabelle della ver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0036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1511280" y="717480"/>
            <a:ext cx="6121440" cy="5423040"/>
          </a:xfrm>
          <a:prstGeom prst="rect">
            <a:avLst/>
          </a:prstGeom>
          <a:ln w="0">
            <a:noFill/>
          </a:ln>
        </p:spPr>
      </p:pic>
      <p:sp>
        <p:nvSpPr>
          <p:cNvPr id="342" name="Titolo 1"/>
          <p:cNvSpPr/>
          <p:nvPr/>
        </p:nvSpPr>
        <p:spPr>
          <a:xfrm>
            <a:off x="1571760" y="214200"/>
            <a:ext cx="7407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Circuiti Logici - esem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2714760" y="1928880"/>
            <a:ext cx="4114800" cy="1422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2500200" y="4071960"/>
            <a:ext cx="455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itolo 1"/>
          <p:cNvSpPr/>
          <p:nvPr/>
        </p:nvSpPr>
        <p:spPr>
          <a:xfrm>
            <a:off x="1584360" y="51264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Teoremi dell’Algebra Boole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571760" y="1357200"/>
            <a:ext cx="60325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1" descr=""/>
          <p:cNvPicPr/>
          <p:nvPr/>
        </p:nvPicPr>
        <p:blipFill>
          <a:blip r:embed="rId1"/>
          <a:stretch/>
        </p:blipFill>
        <p:spPr>
          <a:xfrm>
            <a:off x="1785960" y="785880"/>
            <a:ext cx="5524560" cy="6361200"/>
          </a:xfrm>
          <a:prstGeom prst="rect">
            <a:avLst/>
          </a:prstGeom>
          <a:ln w="0">
            <a:noFill/>
          </a:ln>
        </p:spPr>
      </p:pic>
      <p:sp>
        <p:nvSpPr>
          <p:cNvPr id="348" name="Titolo 1"/>
          <p:cNvSpPr/>
          <p:nvPr/>
        </p:nvSpPr>
        <p:spPr>
          <a:xfrm>
            <a:off x="1500120" y="214200"/>
            <a:ext cx="7407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Semplificazione di espressioni boole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4000680" y="1643040"/>
            <a:ext cx="2234880" cy="291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4000680" y="2000160"/>
            <a:ext cx="1701720" cy="2286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4"/>
          <a:stretch/>
        </p:blipFill>
        <p:spPr>
          <a:xfrm>
            <a:off x="4000680" y="2214720"/>
            <a:ext cx="1536480" cy="2664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5"/>
          <a:stretch/>
        </p:blipFill>
        <p:spPr>
          <a:xfrm>
            <a:off x="3643200" y="3571920"/>
            <a:ext cx="3009960" cy="368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6"/>
          <a:stretch/>
        </p:blipFill>
        <p:spPr>
          <a:xfrm>
            <a:off x="3500280" y="3929040"/>
            <a:ext cx="2768760" cy="266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"/>
          <p:cNvPicPr/>
          <p:nvPr/>
        </p:nvPicPr>
        <p:blipFill>
          <a:blip r:embed="rId7"/>
          <a:stretch/>
        </p:blipFill>
        <p:spPr>
          <a:xfrm>
            <a:off x="3692520" y="4214880"/>
            <a:ext cx="736560" cy="393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8"/>
          <a:stretch/>
        </p:blipFill>
        <p:spPr>
          <a:xfrm>
            <a:off x="4071960" y="5572080"/>
            <a:ext cx="2158920" cy="304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9"/>
          <a:stretch/>
        </p:blipFill>
        <p:spPr>
          <a:xfrm>
            <a:off x="4071960" y="5929200"/>
            <a:ext cx="2273400" cy="279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"/>
          <p:cNvPicPr/>
          <p:nvPr/>
        </p:nvPicPr>
        <p:blipFill>
          <a:blip r:embed="rId10"/>
          <a:stretch/>
        </p:blipFill>
        <p:spPr>
          <a:xfrm>
            <a:off x="3929040" y="6286680"/>
            <a:ext cx="1244520" cy="317160"/>
          </a:xfrm>
          <a:prstGeom prst="rect">
            <a:avLst/>
          </a:prstGeom>
          <a:ln w="0">
            <a:noFill/>
          </a:ln>
        </p:spPr>
      </p:pic>
      <p:sp>
        <p:nvSpPr>
          <p:cNvPr id="358" name="Ovale 12"/>
          <p:cNvSpPr/>
          <p:nvPr/>
        </p:nvSpPr>
        <p:spPr>
          <a:xfrm>
            <a:off x="4714920" y="1571760"/>
            <a:ext cx="785880" cy="357120"/>
          </a:xfrm>
          <a:prstGeom prst="ellipse">
            <a:avLst/>
          </a:prstGeom>
          <a:solidFill>
            <a:srgbClr val="ffff00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e 13"/>
          <p:cNvSpPr/>
          <p:nvPr/>
        </p:nvSpPr>
        <p:spPr>
          <a:xfrm>
            <a:off x="4071960" y="3286080"/>
            <a:ext cx="214200" cy="285840"/>
          </a:xfrm>
          <a:prstGeom prst="ellipse">
            <a:avLst/>
          </a:prstGeom>
          <a:solidFill>
            <a:srgbClr val="ffff00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e 14"/>
          <p:cNvSpPr/>
          <p:nvPr/>
        </p:nvSpPr>
        <p:spPr>
          <a:xfrm>
            <a:off x="5000760" y="3286080"/>
            <a:ext cx="285480" cy="285840"/>
          </a:xfrm>
          <a:prstGeom prst="ellipse">
            <a:avLst/>
          </a:prstGeom>
          <a:solidFill>
            <a:srgbClr val="ffff00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3" descr=""/>
          <p:cNvPicPr/>
          <p:nvPr/>
        </p:nvPicPr>
        <p:blipFill>
          <a:blip r:embed="rId11"/>
          <a:stretch/>
        </p:blipFill>
        <p:spPr>
          <a:xfrm>
            <a:off x="6786720" y="2786040"/>
            <a:ext cx="1892160" cy="558720"/>
          </a:xfrm>
          <a:prstGeom prst="rect">
            <a:avLst/>
          </a:prstGeom>
          <a:ln w="0">
            <a:noFill/>
          </a:ln>
        </p:spPr>
      </p:pic>
      <p:sp>
        <p:nvSpPr>
          <p:cNvPr id="362" name="Ovale 17"/>
          <p:cNvSpPr/>
          <p:nvPr/>
        </p:nvSpPr>
        <p:spPr>
          <a:xfrm>
            <a:off x="6786720" y="2857680"/>
            <a:ext cx="1643040" cy="428400"/>
          </a:xfrm>
          <a:prstGeom prst="ellipse">
            <a:avLst/>
          </a:prstGeom>
          <a:solidFill>
            <a:srgbClr val="ffff00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9:22:02Z</dcterms:created>
  <dc:creator>nello</dc:creator>
  <dc:description/>
  <dc:language>en-US</dc:language>
  <cp:lastModifiedBy>nello</cp:lastModifiedBy>
  <dcterms:modified xsi:type="dcterms:W3CDTF">2010-04-17T23:09:41Z</dcterms:modified>
  <cp:revision>23</cp:revision>
  <dc:subject/>
  <dc:title>Diapositiva 1</dc:title>
</cp:coreProperties>
</file>